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5659438" cy="8002588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9120" y="4313880"/>
            <a:ext cx="434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834640" y="144792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9120" y="431388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2834640" y="431388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1398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077560" y="1447920"/>
            <a:ext cx="1398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46360" y="1447920"/>
            <a:ext cx="1398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09120" y="4313880"/>
            <a:ext cx="1398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077560" y="4313880"/>
            <a:ext cx="1398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3546360" y="4313880"/>
            <a:ext cx="1398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119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834640" y="1447920"/>
            <a:ext cx="2119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282960" y="318960"/>
            <a:ext cx="50929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834640" y="1447920"/>
            <a:ext cx="2119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120" y="431388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119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834640" y="144792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834640" y="431388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834640" y="1447920"/>
            <a:ext cx="2119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313880"/>
            <a:ext cx="434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 algn="ctr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 algn="ctr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 algn="ctr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 algn="ctr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 algn="ctr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720720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8:00pm every Thursday in Room 26, Arts 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522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versity Queer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4400" y="1195560"/>
            <a:ext cx="5317200" cy="6310800"/>
            <a:chOff x="104400" y="1195560"/>
            <a:chExt cx="5317200" cy="6310800"/>
          </a:xfrm>
        </p:grpSpPr>
        <p:grpSp>
          <p:nvGrpSpPr>
            <p:cNvPr id="4" name=""/>
            <p:cNvGrpSpPr/>
            <p:nvPr/>
          </p:nvGrpSpPr>
          <p:grpSpPr>
            <a:xfrm>
              <a:off x="104400" y="1195560"/>
              <a:ext cx="439920" cy="6310800"/>
              <a:chOff x="104400" y="1195560"/>
              <a:chExt cx="439920" cy="63108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106560" y="6131160"/>
                <a:ext cx="423720" cy="427680"/>
                <a:chOff x="106560" y="6131160"/>
                <a:chExt cx="423720" cy="42768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106560" y="6131160"/>
                  <a:ext cx="309960" cy="345240"/>
                  <a:chOff x="106560" y="6131160"/>
                  <a:chExt cx="309960" cy="345240"/>
                </a:xfrm>
              </p:grpSpPr>
              <p:sp>
                <p:nvSpPr>
                  <p:cNvPr id="7" name=""/>
                  <p:cNvSpPr/>
                  <p:nvPr/>
                </p:nvSpPr>
                <p:spPr>
                  <a:xfrm rot="20836200">
                    <a:off x="124560" y="627228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 flipV="1">
                    <a:off x="267840" y="6181560"/>
                    <a:ext cx="91080" cy="11664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 rot="2307600">
                    <a:off x="292680" y="616320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220680" y="6213600"/>
                  <a:ext cx="309600" cy="345240"/>
                  <a:chOff x="220680" y="6213600"/>
                  <a:chExt cx="309600" cy="34524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rot="20836200">
                    <a:off x="238680" y="635508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flipV="1">
                    <a:off x="381600" y="6263640"/>
                    <a:ext cx="91080" cy="11628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2307600">
                    <a:off x="406800" y="624528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" name=""/>
              <p:cNvGrpSpPr/>
              <p:nvPr/>
            </p:nvGrpSpPr>
            <p:grpSpPr>
              <a:xfrm>
                <a:off x="108360" y="1677960"/>
                <a:ext cx="400680" cy="409680"/>
                <a:chOff x="108360" y="1677960"/>
                <a:chExt cx="400680" cy="409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08360" y="1677960"/>
                  <a:ext cx="261360" cy="387000"/>
                  <a:chOff x="108360" y="1677960"/>
                  <a:chExt cx="261360" cy="38700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19233000">
                    <a:off x="146160" y="184140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flipV="1">
                    <a:off x="253800" y="1706400"/>
                    <a:ext cx="28800" cy="14508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 rot="704400">
                    <a:off x="220320" y="168948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" name=""/>
                <p:cNvGrpSpPr/>
                <p:nvPr/>
              </p:nvGrpSpPr>
              <p:grpSpPr>
                <a:xfrm>
                  <a:off x="247680" y="1700280"/>
                  <a:ext cx="261360" cy="387360"/>
                  <a:chOff x="247680" y="1700280"/>
                  <a:chExt cx="261360" cy="38736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 rot="19233000">
                    <a:off x="285120" y="186408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 flipV="1">
                    <a:off x="392400" y="1728720"/>
                    <a:ext cx="29160" cy="14472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 rot="704400">
                    <a:off x="359640" y="171180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" name=""/>
              <p:cNvGrpSpPr/>
              <p:nvPr/>
            </p:nvGrpSpPr>
            <p:grpSpPr>
              <a:xfrm>
                <a:off x="150480" y="2127240"/>
                <a:ext cx="383400" cy="416520"/>
                <a:chOff x="150480" y="2127240"/>
                <a:chExt cx="383400" cy="416520"/>
              </a:xfrm>
            </p:grpSpPr>
            <p:grpSp>
              <p:nvGrpSpPr>
                <p:cNvPr id="24" name=""/>
                <p:cNvGrpSpPr/>
                <p:nvPr/>
              </p:nvGrpSpPr>
              <p:grpSpPr>
                <a:xfrm>
                  <a:off x="150480" y="2165040"/>
                  <a:ext cx="247680" cy="378720"/>
                  <a:chOff x="150480" y="2165040"/>
                  <a:chExt cx="247680" cy="3787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7738400">
                    <a:off x="181440" y="232704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flipH="1" flipV="1">
                    <a:off x="217800" y="2194920"/>
                    <a:ext cx="34920" cy="14364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 rot="20809800">
                    <a:off x="159120" y="217800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" name=""/>
                <p:cNvGrpSpPr/>
                <p:nvPr/>
              </p:nvGrpSpPr>
              <p:grpSpPr>
                <a:xfrm>
                  <a:off x="286200" y="2127240"/>
                  <a:ext cx="247680" cy="378360"/>
                  <a:chOff x="286200" y="2127240"/>
                  <a:chExt cx="247680" cy="378360"/>
                </a:xfrm>
              </p:grpSpPr>
              <p:sp>
                <p:nvSpPr>
                  <p:cNvPr id="29" name=""/>
                  <p:cNvSpPr/>
                  <p:nvPr/>
                </p:nvSpPr>
                <p:spPr>
                  <a:xfrm rot="17738400">
                    <a:off x="316800" y="228888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 flipH="1" flipV="1">
                    <a:off x="352800" y="2156760"/>
                    <a:ext cx="34560" cy="14364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 rot="20809800">
                    <a:off x="294840" y="213984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" name=""/>
              <p:cNvGrpSpPr/>
              <p:nvPr/>
            </p:nvGrpSpPr>
            <p:grpSpPr>
              <a:xfrm>
                <a:off x="110520" y="2556360"/>
                <a:ext cx="421560" cy="423000"/>
                <a:chOff x="110520" y="2556360"/>
                <a:chExt cx="421560" cy="423000"/>
              </a:xfrm>
            </p:grpSpPr>
            <p:grpSp>
              <p:nvGrpSpPr>
                <p:cNvPr id="33" name=""/>
                <p:cNvGrpSpPr/>
                <p:nvPr/>
              </p:nvGrpSpPr>
              <p:grpSpPr>
                <a:xfrm>
                  <a:off x="110520" y="2663280"/>
                  <a:ext cx="330480" cy="316080"/>
                  <a:chOff x="110520" y="2663280"/>
                  <a:chExt cx="330480" cy="3160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15708000">
                    <a:off x="242640" y="278100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flipH="1" flipV="1">
                    <a:off x="163440" y="2718720"/>
                    <a:ext cx="109080" cy="10008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 rot="18780000">
                    <a:off x="109800" y="269928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201600" y="2556360"/>
                  <a:ext cx="330480" cy="315720"/>
                  <a:chOff x="201600" y="2556360"/>
                  <a:chExt cx="330480" cy="31572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 rot="15708000">
                    <a:off x="334080" y="267408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 flipH="1" flipV="1">
                    <a:off x="254520" y="2611800"/>
                    <a:ext cx="108720" cy="10008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 rot="18780000">
                    <a:off x="200880" y="259236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" name=""/>
              <p:cNvGrpSpPr/>
              <p:nvPr/>
            </p:nvGrpSpPr>
            <p:grpSpPr>
              <a:xfrm>
                <a:off x="135360" y="2995560"/>
                <a:ext cx="406080" cy="401400"/>
                <a:chOff x="135360" y="2995560"/>
                <a:chExt cx="406080" cy="401400"/>
              </a:xfrm>
            </p:grpSpPr>
            <p:grpSp>
              <p:nvGrpSpPr>
                <p:cNvPr id="42" name=""/>
                <p:cNvGrpSpPr/>
                <p:nvPr/>
              </p:nvGrpSpPr>
              <p:grpSpPr>
                <a:xfrm>
                  <a:off x="135360" y="3134880"/>
                  <a:ext cx="386640" cy="262080"/>
                  <a:chOff x="135360" y="3134880"/>
                  <a:chExt cx="386640" cy="2620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rot="13762200">
                    <a:off x="297720" y="317304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flipV="1">
                    <a:off x="162360" y="3227040"/>
                    <a:ext cx="145800" cy="2592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 rot="16833600">
                    <a:off x="110880" y="320328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" name=""/>
                <p:cNvGrpSpPr/>
                <p:nvPr/>
              </p:nvGrpSpPr>
              <p:grpSpPr>
                <a:xfrm>
                  <a:off x="154800" y="2995560"/>
                  <a:ext cx="386640" cy="261720"/>
                  <a:chOff x="154800" y="2995560"/>
                  <a:chExt cx="386640" cy="26172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 rot="13762200">
                    <a:off x="317520" y="303372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flipH="1" flipV="1">
                    <a:off x="181800" y="3088080"/>
                    <a:ext cx="145440" cy="2592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rot="16833600">
                    <a:off x="130320" y="306360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" name=""/>
              <p:cNvGrpSpPr/>
              <p:nvPr/>
            </p:nvGrpSpPr>
            <p:grpSpPr>
              <a:xfrm>
                <a:off x="110880" y="3423240"/>
                <a:ext cx="426600" cy="401400"/>
                <a:chOff x="110880" y="3423240"/>
                <a:chExt cx="426600" cy="4014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178560" y="3546720"/>
                  <a:ext cx="358920" cy="277920"/>
                  <a:chOff x="178560" y="3546720"/>
                  <a:chExt cx="358920" cy="2779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rot="11558400">
                    <a:off x="333360" y="356436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>
                    <a:off x="219960" y="3696840"/>
                    <a:ext cx="132120" cy="6624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4629800">
                    <a:off x="167400" y="373356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110880" y="3423240"/>
                  <a:ext cx="358920" cy="277920"/>
                  <a:chOff x="110880" y="3423240"/>
                  <a:chExt cx="358920" cy="2779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 rot="11558400">
                    <a:off x="265680" y="344088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flipH="1">
                    <a:off x="152280" y="3574080"/>
                    <a:ext cx="132120" cy="6588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14629800">
                    <a:off x="99720" y="361044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125280" y="3873240"/>
                <a:ext cx="419040" cy="432360"/>
                <a:chOff x="125280" y="3873240"/>
                <a:chExt cx="419040" cy="43236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249480" y="3939480"/>
                  <a:ext cx="294840" cy="366120"/>
                  <a:chOff x="249480" y="3939480"/>
                  <a:chExt cx="294840" cy="366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rot="9553800">
                    <a:off x="331560" y="396612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>
                    <a:off x="310320" y="4132800"/>
                    <a:ext cx="73800" cy="12816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rot="12625200">
                    <a:off x="253800" y="422748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125280" y="3873240"/>
                  <a:ext cx="294480" cy="366480"/>
                  <a:chOff x="125280" y="3873240"/>
                  <a:chExt cx="294480" cy="36648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 rot="9553800">
                    <a:off x="207000" y="390024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186120" y="4067640"/>
                    <a:ext cx="73800" cy="12780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2625200">
                    <a:off x="129600" y="416160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"/>
              <p:cNvGrpSpPr/>
              <p:nvPr/>
            </p:nvGrpSpPr>
            <p:grpSpPr>
              <a:xfrm>
                <a:off x="114120" y="4352400"/>
                <a:ext cx="384480" cy="415800"/>
                <a:chOff x="114120" y="4352400"/>
                <a:chExt cx="384480" cy="4158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249840" y="4352400"/>
                  <a:ext cx="248760" cy="379080"/>
                  <a:chOff x="249840" y="4352400"/>
                  <a:chExt cx="248760" cy="3790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rot="6978600">
                    <a:off x="281160" y="438372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394920" y="4558320"/>
                    <a:ext cx="33120" cy="14400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0050000">
                    <a:off x="365040" y="466812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114120" y="4389120"/>
                  <a:ext cx="248400" cy="379080"/>
                  <a:chOff x="114120" y="4389120"/>
                  <a:chExt cx="248400" cy="37908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 rot="6978600">
                    <a:off x="145080" y="442044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59560" y="4595040"/>
                    <a:ext cx="32760" cy="14400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10050000">
                    <a:off x="229680" y="470448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" name=""/>
              <p:cNvGrpSpPr/>
              <p:nvPr/>
            </p:nvGrpSpPr>
            <p:grpSpPr>
              <a:xfrm>
                <a:off x="118800" y="4811400"/>
                <a:ext cx="417240" cy="421560"/>
                <a:chOff x="118800" y="4811400"/>
                <a:chExt cx="417240" cy="421560"/>
              </a:xfrm>
            </p:grpSpPr>
            <p:grpSp>
              <p:nvGrpSpPr>
                <p:cNvPr id="78" name=""/>
                <p:cNvGrpSpPr/>
                <p:nvPr/>
              </p:nvGrpSpPr>
              <p:grpSpPr>
                <a:xfrm>
                  <a:off x="214560" y="4811400"/>
                  <a:ext cx="321480" cy="318600"/>
                  <a:chOff x="214560" y="4811400"/>
                  <a:chExt cx="321480" cy="3186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 rot="5053800">
                    <a:off x="223200" y="482004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376920" y="4971240"/>
                    <a:ext cx="104760" cy="10476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rot="8125200">
                    <a:off x="414360" y="504396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118800" y="4914720"/>
                  <a:ext cx="321480" cy="318240"/>
                  <a:chOff x="118800" y="4914720"/>
                  <a:chExt cx="321480" cy="3182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 rot="5053800">
                    <a:off x="127080" y="492372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281880" y="5074200"/>
                    <a:ext cx="104400" cy="10476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8125200">
                    <a:off x="318960" y="514692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112320" y="5216760"/>
                <a:ext cx="390960" cy="403200"/>
                <a:chOff x="112320" y="5216760"/>
                <a:chExt cx="390960" cy="40320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118800" y="5216760"/>
                  <a:ext cx="384480" cy="262800"/>
                  <a:chOff x="118800" y="5216760"/>
                  <a:chExt cx="384480" cy="26280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rot="2642400">
                    <a:off x="157320" y="525492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34080" y="5353200"/>
                    <a:ext cx="147240" cy="1224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5713800">
                    <a:off x="411840" y="533916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112320" y="5357520"/>
                  <a:ext cx="384480" cy="262440"/>
                  <a:chOff x="112320" y="5357520"/>
                  <a:chExt cx="384480" cy="26244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 rot="2642400">
                    <a:off x="150480" y="539568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27960" y="5493240"/>
                    <a:ext cx="147240" cy="1260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5713800">
                    <a:off x="405720" y="547956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" name=""/>
              <p:cNvGrpSpPr/>
              <p:nvPr/>
            </p:nvGrpSpPr>
            <p:grpSpPr>
              <a:xfrm>
                <a:off x="106560" y="1195560"/>
                <a:ext cx="423720" cy="427680"/>
                <a:chOff x="106560" y="1195560"/>
                <a:chExt cx="423720" cy="42768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106560" y="1195560"/>
                  <a:ext cx="309960" cy="345240"/>
                  <a:chOff x="106560" y="1195560"/>
                  <a:chExt cx="309960" cy="34524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 rot="20836200">
                    <a:off x="124560" y="133668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V="1">
                    <a:off x="267840" y="1245960"/>
                    <a:ext cx="91080" cy="11664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307600">
                    <a:off x="292680" y="122760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220680" y="1278000"/>
                  <a:ext cx="309600" cy="345240"/>
                  <a:chOff x="220680" y="1278000"/>
                  <a:chExt cx="309600" cy="3452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0836200">
                    <a:off x="238680" y="141948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V="1">
                    <a:off x="381600" y="1328040"/>
                    <a:ext cx="91080" cy="11628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2307600">
                    <a:off x="406800" y="130968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" name=""/>
              <p:cNvGrpSpPr/>
              <p:nvPr/>
            </p:nvGrpSpPr>
            <p:grpSpPr>
              <a:xfrm>
                <a:off x="104400" y="5700240"/>
                <a:ext cx="420840" cy="385560"/>
                <a:chOff x="104400" y="5700240"/>
                <a:chExt cx="420840" cy="3855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104400" y="5700240"/>
                  <a:ext cx="375480" cy="252360"/>
                  <a:chOff x="104400" y="5700240"/>
                  <a:chExt cx="375480" cy="2523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 rot="1355400">
                    <a:off x="132840" y="573804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V="1">
                    <a:off x="305640" y="5762880"/>
                    <a:ext cx="141480" cy="4248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4426800">
                    <a:off x="378000" y="573984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149400" y="5833440"/>
                  <a:ext cx="375840" cy="252360"/>
                  <a:chOff x="149400" y="5833440"/>
                  <a:chExt cx="375840" cy="252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1355400">
                    <a:off x="177840" y="587160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V="1">
                    <a:off x="351000" y="5895720"/>
                    <a:ext cx="141480" cy="4212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4426800">
                    <a:off x="423360" y="587304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" name=""/>
              <p:cNvGrpSpPr/>
              <p:nvPr/>
            </p:nvGrpSpPr>
            <p:grpSpPr>
              <a:xfrm>
                <a:off x="106920" y="6621480"/>
                <a:ext cx="400680" cy="409320"/>
                <a:chOff x="106920" y="6621480"/>
                <a:chExt cx="400680" cy="40932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106920" y="6621480"/>
                  <a:ext cx="261360" cy="386640"/>
                  <a:chOff x="106920" y="6621480"/>
                  <a:chExt cx="261360" cy="3866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rot="19233000">
                    <a:off x="144720" y="678456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252360" y="6649920"/>
                    <a:ext cx="28800" cy="14472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704400">
                    <a:off x="218880" y="663300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246240" y="6643800"/>
                  <a:ext cx="261360" cy="387000"/>
                  <a:chOff x="246240" y="6643800"/>
                  <a:chExt cx="261360" cy="3870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rot="19233000">
                    <a:off x="283680" y="680724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V="1">
                    <a:off x="390600" y="6671880"/>
                    <a:ext cx="29520" cy="14472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704400">
                    <a:off x="357840" y="665532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150480" y="7089840"/>
                <a:ext cx="383400" cy="416520"/>
                <a:chOff x="150480" y="7089840"/>
                <a:chExt cx="383400" cy="41652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150480" y="7127640"/>
                  <a:ext cx="247680" cy="378720"/>
                  <a:chOff x="150480" y="7127640"/>
                  <a:chExt cx="247680" cy="37872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rot="17738400">
                    <a:off x="181440" y="7289640"/>
                    <a:ext cx="185760" cy="1857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H="1" flipV="1">
                    <a:off x="217800" y="7157520"/>
                    <a:ext cx="34920" cy="14364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20809800">
                    <a:off x="159120" y="7140600"/>
                    <a:ext cx="120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286200" y="7089840"/>
                  <a:ext cx="247680" cy="378360"/>
                  <a:chOff x="286200" y="7089840"/>
                  <a:chExt cx="247680" cy="37836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7738400">
                    <a:off x="316800" y="7251480"/>
                    <a:ext cx="185760" cy="1854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flipV="1">
                    <a:off x="352800" y="7119360"/>
                    <a:ext cx="34560" cy="143640"/>
                  </a:xfrm>
                  <a:prstGeom prst="line">
                    <a:avLst/>
                  </a:prstGeom>
                  <a:ln w="2844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20809800">
                    <a:off x="294840" y="710244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2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7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1" name=""/>
            <p:cNvGrpSpPr/>
            <p:nvPr/>
          </p:nvGrpSpPr>
          <p:grpSpPr>
            <a:xfrm>
              <a:off x="4995000" y="1219680"/>
              <a:ext cx="426600" cy="6267960"/>
              <a:chOff x="4995000" y="1219680"/>
              <a:chExt cx="426600" cy="62679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5005800" y="1219680"/>
                <a:ext cx="402480" cy="368640"/>
                <a:chOff x="5005800" y="1219680"/>
                <a:chExt cx="402480" cy="368640"/>
              </a:xfrm>
            </p:grpSpPr>
            <p:sp>
              <p:nvSpPr>
                <p:cNvPr id="133" name=""/>
                <p:cNvSpPr/>
                <p:nvPr/>
              </p:nvSpPr>
              <p:spPr>
                <a:xfrm rot="7765200">
                  <a:off x="5184360" y="125748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5279040" y="1436040"/>
                  <a:ext cx="720" cy="1476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7765200">
                  <a:off x="5043240" y="12621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5137560" y="1440720"/>
                  <a:ext cx="360" cy="1476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83200" y="1527480"/>
                  <a:ext cx="108000" cy="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226120" y="1527480"/>
                  <a:ext cx="108000" cy="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006880" y="1634040"/>
                <a:ext cx="365040" cy="385920"/>
                <a:chOff x="5006880" y="1634040"/>
                <a:chExt cx="365040" cy="385920"/>
              </a:xfrm>
            </p:grpSpPr>
            <p:sp>
              <p:nvSpPr>
                <p:cNvPr id="140" name=""/>
                <p:cNvSpPr/>
                <p:nvPr/>
              </p:nvSpPr>
              <p:spPr>
                <a:xfrm rot="6126000">
                  <a:off x="5147280" y="165132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281200" y="1819080"/>
                  <a:ext cx="67680" cy="13176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6126000">
                  <a:off x="5024160" y="172044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7720" y="1888560"/>
                  <a:ext cx="67680" cy="1314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5148720" y="1941120"/>
                  <a:ext cx="96120" cy="496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5275800" y="1875600"/>
                  <a:ext cx="96120" cy="496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99320" y="2098800"/>
                <a:ext cx="390960" cy="375480"/>
                <a:chOff x="4999320" y="2098800"/>
                <a:chExt cx="390960" cy="375480"/>
              </a:xfrm>
            </p:grpSpPr>
            <p:sp>
              <p:nvSpPr>
                <p:cNvPr id="147" name=""/>
                <p:cNvSpPr/>
                <p:nvPr/>
              </p:nvSpPr>
              <p:spPr>
                <a:xfrm rot="3965400">
                  <a:off x="5088240" y="212832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258520" y="2257920"/>
                  <a:ext cx="131760" cy="666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3965400">
                  <a:off x="5028840" y="225648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199120" y="2386800"/>
                  <a:ext cx="132120" cy="662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5252040" y="2377800"/>
                  <a:ext cx="48600" cy="964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5316120" y="2250000"/>
                  <a:ext cx="48600" cy="968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007960" y="2560320"/>
                <a:ext cx="378000" cy="398880"/>
                <a:chOff x="5007960" y="2560320"/>
                <a:chExt cx="378000" cy="398880"/>
              </a:xfrm>
            </p:grpSpPr>
            <p:sp>
              <p:nvSpPr>
                <p:cNvPr id="154" name=""/>
                <p:cNvSpPr/>
                <p:nvPr/>
              </p:nvSpPr>
              <p:spPr>
                <a:xfrm rot="2074200">
                  <a:off x="5044320" y="259632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5221800" y="2668320"/>
                  <a:ext cx="147600" cy="118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2074200">
                  <a:off x="5060880" y="273672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238720" y="2808720"/>
                  <a:ext cx="147240" cy="122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5320800" y="2760480"/>
                  <a:ext cx="9000" cy="1076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5308560" y="2618280"/>
                  <a:ext cx="9000" cy="1076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015160" y="3033720"/>
                <a:ext cx="367560" cy="358920"/>
                <a:chOff x="5015160" y="3033720"/>
                <a:chExt cx="367560" cy="358920"/>
              </a:xfrm>
            </p:grpSpPr>
            <p:sp>
              <p:nvSpPr>
                <p:cNvPr id="161" name=""/>
                <p:cNvSpPr/>
                <p:nvPr/>
              </p:nvSpPr>
              <p:spPr>
                <a:xfrm rot="21454800">
                  <a:off x="5018760" y="310068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5174280" y="3036960"/>
                  <a:ext cx="110520" cy="982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21454800">
                  <a:off x="5116680" y="32025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272560" y="3139200"/>
                  <a:ext cx="110160" cy="982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5301360" y="3139920"/>
                  <a:ext cx="72000" cy="806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5205960" y="3033720"/>
                  <a:ext cx="72360" cy="802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995000" y="3483720"/>
                <a:ext cx="400680" cy="382320"/>
                <a:chOff x="4995000" y="3483720"/>
                <a:chExt cx="400680" cy="382320"/>
              </a:xfrm>
            </p:grpSpPr>
            <p:sp>
              <p:nvSpPr>
                <p:cNvPr id="168" name=""/>
                <p:cNvSpPr/>
                <p:nvPr/>
              </p:nvSpPr>
              <p:spPr>
                <a:xfrm rot="19230000">
                  <a:off x="5032800" y="361980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5140080" y="3483720"/>
                  <a:ext cx="28800" cy="1450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9230000">
                  <a:off x="5172120" y="364212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5280120" y="3506400"/>
                  <a:ext cx="28440" cy="14472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flipV="1">
                  <a:off x="5244120" y="3555720"/>
                  <a:ext cx="106200" cy="208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flipV="1">
                  <a:off x="5104080" y="3528360"/>
                  <a:ext cx="105840" cy="208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045760" y="3917880"/>
                <a:ext cx="364680" cy="388800"/>
                <a:chOff x="5045760" y="3917880"/>
                <a:chExt cx="364680" cy="388800"/>
              </a:xfrm>
            </p:grpSpPr>
            <p:sp>
              <p:nvSpPr>
                <p:cNvPr id="175" name=""/>
                <p:cNvSpPr/>
                <p:nvPr/>
              </p:nvSpPr>
              <p:spPr>
                <a:xfrm rot="17168400">
                  <a:off x="5074560" y="409860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5073840" y="3978000"/>
                  <a:ext cx="57960" cy="1360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7168400">
                  <a:off x="5202360" y="403848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5202000" y="3917880"/>
                  <a:ext cx="57960" cy="13572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5176800" y="3952440"/>
                  <a:ext cx="99360" cy="424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5045760" y="4008960"/>
                  <a:ext cx="99000" cy="424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024880" y="4419720"/>
                <a:ext cx="387360" cy="376200"/>
                <a:chOff x="5024880" y="4419720"/>
                <a:chExt cx="387360" cy="376200"/>
              </a:xfrm>
            </p:grpSpPr>
            <p:sp>
              <p:nvSpPr>
                <p:cNvPr id="182" name=""/>
                <p:cNvSpPr/>
                <p:nvPr/>
              </p:nvSpPr>
              <p:spPr>
                <a:xfrm rot="15079200">
                  <a:off x="5130360" y="45849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>
                  <a:off x="5024880" y="4556520"/>
                  <a:ext cx="125280" cy="784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5079200">
                  <a:off x="5201280" y="44625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>
                  <a:off x="5095440" y="4433760"/>
                  <a:ext cx="125280" cy="7812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5119200" y="4419720"/>
                  <a:ext cx="56880" cy="918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5043600" y="4541040"/>
                  <a:ext cx="56880" cy="918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027400" y="4826160"/>
                <a:ext cx="378000" cy="398520"/>
                <a:chOff x="5027400" y="4826160"/>
                <a:chExt cx="378000" cy="398520"/>
              </a:xfrm>
            </p:grpSpPr>
            <p:sp>
              <p:nvSpPr>
                <p:cNvPr id="189" name=""/>
                <p:cNvSpPr/>
                <p:nvPr/>
              </p:nvSpPr>
              <p:spPr>
                <a:xfrm rot="12869400">
                  <a:off x="5183280" y="50025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5044320" y="5104800"/>
                  <a:ext cx="147240" cy="122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2869400">
                  <a:off x="5166720" y="48621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5027400" y="4964040"/>
                  <a:ext cx="146880" cy="126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083560" y="4916880"/>
                  <a:ext cx="9000" cy="1076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095800" y="5059440"/>
                  <a:ext cx="9000" cy="1076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024160" y="5289840"/>
                <a:ext cx="375480" cy="360720"/>
                <a:chOff x="5024160" y="5289840"/>
                <a:chExt cx="375480" cy="360720"/>
              </a:xfrm>
            </p:grpSpPr>
            <p:sp>
              <p:nvSpPr>
                <p:cNvPr id="196" name=""/>
                <p:cNvSpPr/>
                <p:nvPr/>
              </p:nvSpPr>
              <p:spPr>
                <a:xfrm rot="11077800">
                  <a:off x="5206320" y="541044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108760" y="5553720"/>
                  <a:ext cx="121680" cy="838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1077800">
                  <a:off x="5122080" y="529704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024160" y="5439960"/>
                  <a:ext cx="121320" cy="842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43240" y="5444640"/>
                  <a:ext cx="61560" cy="8856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124600" y="5562000"/>
                  <a:ext cx="61920" cy="8856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025960" y="5744160"/>
                <a:ext cx="395640" cy="388080"/>
                <a:chOff x="5025960" y="5744160"/>
                <a:chExt cx="395640" cy="388080"/>
              </a:xfrm>
            </p:grpSpPr>
            <p:sp>
              <p:nvSpPr>
                <p:cNvPr id="203" name=""/>
                <p:cNvSpPr/>
                <p:nvPr/>
              </p:nvSpPr>
              <p:spPr>
                <a:xfrm rot="8712000">
                  <a:off x="5199120" y="58143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5230440" y="5990040"/>
                  <a:ext cx="40680" cy="1422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8712000">
                  <a:off x="5061960" y="578052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5092920" y="5956200"/>
                  <a:ext cx="40320" cy="1422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057280" y="6024960"/>
                  <a:ext cx="103680" cy="2916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194800" y="6063840"/>
                  <a:ext cx="103680" cy="2916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000760" y="6176880"/>
                <a:ext cx="391320" cy="384840"/>
                <a:chOff x="5000760" y="6176880"/>
                <a:chExt cx="391320" cy="384840"/>
              </a:xfrm>
            </p:grpSpPr>
            <p:sp>
              <p:nvSpPr>
                <p:cNvPr id="210" name=""/>
                <p:cNvSpPr/>
                <p:nvPr/>
              </p:nvSpPr>
              <p:spPr>
                <a:xfrm rot="7171800">
                  <a:off x="5172480" y="62103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82280" y="6387120"/>
                  <a:ext cx="24840" cy="1458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171800">
                  <a:off x="5034240" y="62391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143320" y="6416280"/>
                  <a:ext cx="25200" cy="1454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5104440" y="6492600"/>
                  <a:ext cx="106560" cy="1836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245200" y="6468120"/>
                  <a:ext cx="106560" cy="1836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011200" y="6636600"/>
                <a:ext cx="368280" cy="368640"/>
                <a:chOff x="5011200" y="6636600"/>
                <a:chExt cx="368280" cy="368640"/>
              </a:xfrm>
            </p:grpSpPr>
            <p:sp>
              <p:nvSpPr>
                <p:cNvPr id="217" name=""/>
                <p:cNvSpPr/>
                <p:nvPr/>
              </p:nvSpPr>
              <p:spPr>
                <a:xfrm rot="4959600">
                  <a:off x="5115600" y="664740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72200" y="6797520"/>
                  <a:ext cx="107280" cy="10152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4959600">
                  <a:off x="5022360" y="675324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78600" y="6904080"/>
                  <a:ext cx="107280" cy="10116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5204160" y="6924600"/>
                  <a:ext cx="74160" cy="7884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5302080" y="6820560"/>
                  <a:ext cx="74160" cy="784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007240" y="7084800"/>
                <a:ext cx="376920" cy="402840"/>
                <a:chOff x="5007240" y="7084800"/>
                <a:chExt cx="376920" cy="402840"/>
              </a:xfrm>
            </p:grpSpPr>
            <p:sp>
              <p:nvSpPr>
                <p:cNvPr id="224" name=""/>
                <p:cNvSpPr/>
                <p:nvPr/>
              </p:nvSpPr>
              <p:spPr>
                <a:xfrm rot="2822400">
                  <a:off x="5059800" y="71229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7640" y="7225200"/>
                  <a:ext cx="146520" cy="2016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822400">
                  <a:off x="5045760" y="7263360"/>
                  <a:ext cx="185760" cy="185760"/>
                </a:xfrm>
                <a:prstGeom prst="ellipse">
                  <a:avLst/>
                </a:prstGeom>
                <a:noFill/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23600" y="7366320"/>
                  <a:ext cx="146520" cy="198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5302440" y="7324920"/>
                  <a:ext cx="14040" cy="10728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321160" y="7183440"/>
                  <a:ext cx="14400" cy="10692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82960" y="318960"/>
            <a:ext cx="50929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oster Book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iaran McHal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14520" y="7161120"/>
            <a:ext cx="4338360" cy="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74977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CiaranMcHa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seven dwarfs were in bed feeling Happy, so Happy got out and they started feeling Grumpy instead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in the society with a sense of humo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ciousness-raising even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we open your min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n your leg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of us are in the gutter, but some of us are looking at the stars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scar Wild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of us are in the gutter, but some of us are buggering the stars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lk by gossip columni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rminally straight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n’t fear! There is hope for you ye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racle cures available this Thursday at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t’s make i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fectly que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’re he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 used to i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a little charit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Thursday 8pm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92200" y="1725480"/>
            <a:ext cx="4354560" cy="2881080"/>
            <a:chOff x="592200" y="1725480"/>
            <a:chExt cx="4354560" cy="2881080"/>
          </a:xfrm>
        </p:grpSpPr>
        <p:pic>
          <p:nvPicPr>
            <p:cNvPr id="309" name="charity" descr=""/>
            <p:cNvPicPr/>
            <p:nvPr/>
          </p:nvPicPr>
          <p:blipFill>
            <a:blip r:embed="rId1"/>
            <a:stretch/>
          </p:blipFill>
          <p:spPr>
            <a:xfrm>
              <a:off x="655560" y="1725480"/>
              <a:ext cx="42912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92200" y="3027240"/>
              <a:ext cx="3854520" cy="474480"/>
            </a:xfrm>
            <a:custGeom>
              <a:avLst/>
              <a:gdLst/>
              <a:ahLst/>
              <a:rect l="l" t="t" r="r" b="b"/>
              <a:pathLst>
                <a:path w="2428" h="299">
                  <a:moveTo>
                    <a:pt x="48" y="135"/>
                  </a:moveTo>
                  <a:cubicBezTo>
                    <a:pt x="57" y="106"/>
                    <a:pt x="0" y="44"/>
                    <a:pt x="208" y="23"/>
                  </a:cubicBezTo>
                  <a:cubicBezTo>
                    <a:pt x="416" y="2"/>
                    <a:pt x="958" y="4"/>
                    <a:pt x="1296" y="7"/>
                  </a:cubicBezTo>
                  <a:cubicBezTo>
                    <a:pt x="1634" y="10"/>
                    <a:pt x="2077" y="0"/>
                    <a:pt x="2236" y="39"/>
                  </a:cubicBezTo>
                  <a:cubicBezTo>
                    <a:pt x="2395" y="78"/>
                    <a:pt x="2428" y="196"/>
                    <a:pt x="2248" y="239"/>
                  </a:cubicBezTo>
                  <a:cubicBezTo>
                    <a:pt x="2068" y="282"/>
                    <a:pt x="1475" y="299"/>
                    <a:pt x="1156" y="299"/>
                  </a:cubicBezTo>
                  <a:cubicBezTo>
                    <a:pt x="837" y="299"/>
                    <a:pt x="503" y="256"/>
                    <a:pt x="336" y="239"/>
                  </a:cubicBezTo>
                  <a:cubicBezTo>
                    <a:pt x="169" y="222"/>
                    <a:pt x="200" y="216"/>
                    <a:pt x="152" y="199"/>
                  </a:cubicBezTo>
                  <a:cubicBezTo>
                    <a:pt x="104" y="182"/>
                    <a:pt x="39" y="164"/>
                    <a:pt x="48" y="135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Resistance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s Futile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il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educe you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life treated yo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ough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you deserve a fai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ack of the whip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n come along to ou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M n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n join no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get discoun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 evening classes in nouvelle cuisin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ior decor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fash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it a bird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it a plane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it Superma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, it’s th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Queer Society!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 of term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comer’s mee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e along an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eel a little fres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uggers can’t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 chooser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queer socie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 campus meets every Thursday at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cest, murder,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ape, huma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acrifice,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ipping a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mosexualit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ories from the bib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’s out of sight!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Well actually, it’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the Arts Building, up the stairs an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 the lef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o all the way…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our nex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eting an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in u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ce upon a time...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g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Tooth Fairy pul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quick one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King who was 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een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vorite fairy ta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ld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sbian political activists urge you t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ick Bush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are everywher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ven the wall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 que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lympic Practic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sexual fenc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ng distance toss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sbian breast strok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 spor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457280" y="1447560"/>
            <a:ext cx="2400480" cy="2047680"/>
            <a:chOff x="1457280" y="1447560"/>
            <a:chExt cx="2400480" cy="2047680"/>
          </a:xfrm>
        </p:grpSpPr>
        <p:sp>
          <p:nvSpPr>
            <p:cNvPr id="331" name=""/>
            <p:cNvSpPr/>
            <p:nvPr/>
          </p:nvSpPr>
          <p:spPr>
            <a:xfrm>
              <a:off x="1457280" y="2019240"/>
              <a:ext cx="600120" cy="599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38160" y="2324160"/>
              <a:ext cx="600120" cy="599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00280" y="2324160"/>
              <a:ext cx="600120" cy="599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19400" y="2019240"/>
              <a:ext cx="600120" cy="599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81160" y="2019240"/>
              <a:ext cx="600120" cy="599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952640" y="1447560"/>
              <a:ext cx="38088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714760" y="1447560"/>
              <a:ext cx="38088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476520" y="1447560"/>
              <a:ext cx="38124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3720" y="2886120"/>
              <a:ext cx="0" cy="609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67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95480" y="2886120"/>
              <a:ext cx="0" cy="609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3200" y="326700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Homophobia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 cured?”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pic for group discussion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t religion is a faith worse than death”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pic for grou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bate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mosexual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re recruiting!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 forms available at the next meet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ial event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Andy Warho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le stripteas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etition”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winner ge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cm of fa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fferent strok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 different folks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ading sexologi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cusses masturb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chniqu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ger-licking good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sbian discussion 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sting techniqu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tting to grips with masturbation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lk by leading sexologi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ing wh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es unnaturall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Thursday at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e’re doing our bit to prick your conscience</a:t>
            </a:r>
            <a:br>
              <a:rPr sz="40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and other thing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ll house, queens hig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7" name="full-house-queens-high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2944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laying the one-ey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ster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ung like a bear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gives me th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llies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ic horror stor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ld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think th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we do ever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rsday at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perverted the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member..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rse things happ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 sea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S: we’re going cruis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fter the meet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noon delight i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hing compared t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ights of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cstasy we hav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 our meeting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pply for you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embership card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jected in 20 million shops worldwid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on’t leave hom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ithout it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4400" y="2438280"/>
            <a:ext cx="3762360" cy="2514600"/>
            <a:chOff x="914400" y="2438280"/>
            <a:chExt cx="3762360" cy="2514600"/>
          </a:xfrm>
        </p:grpSpPr>
        <p:sp>
          <p:nvSpPr>
            <p:cNvPr id="276" name=""/>
            <p:cNvSpPr/>
            <p:nvPr/>
          </p:nvSpPr>
          <p:spPr>
            <a:xfrm>
              <a:off x="914400" y="2438280"/>
              <a:ext cx="3733920" cy="251460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3200400"/>
              <a:ext cx="373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000000"/>
                  </a:solidFill>
                  <a:latin typeface="Arial Black"/>
                </a:rPr>
                <a:t>QUEER CAR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990960" y="2590920"/>
              <a:ext cx="409320" cy="585360"/>
              <a:chOff x="3990960" y="2590920"/>
              <a:chExt cx="409320" cy="585360"/>
            </a:xfrm>
          </p:grpSpPr>
          <p:sp>
            <p:nvSpPr>
              <p:cNvPr id="279" name=""/>
              <p:cNvSpPr txBox="1"/>
              <p:nvPr/>
            </p:nvSpPr>
            <p:spPr>
              <a:xfrm>
                <a:off x="4085280" y="2678760"/>
                <a:ext cx="315000" cy="497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Palatino Linotype"/>
                  </a:rPr>
                  <a:t>C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Palatino Linotype"/>
                  <a:ea typeface="Palatino Linotype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3990960" y="2590920"/>
                <a:ext cx="315000" cy="497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Palatino Linotype"/>
                  </a:rPr>
                  <a:t>Q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Palatino Linotype"/>
                  <a:ea typeface="Palatino Linotype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143000" y="37465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Courier New"/>
                </a:rPr>
                <a:t>7421 7985 0195 43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143000" y="4029120"/>
              <a:ext cx="3533760" cy="599760"/>
              <a:chOff x="1143000" y="4029120"/>
              <a:chExt cx="3533760" cy="599760"/>
            </a:xfrm>
          </p:grpSpPr>
          <p:sp>
            <p:nvSpPr>
              <p:cNvPr id="283" name=""/>
              <p:cNvSpPr txBox="1"/>
              <p:nvPr/>
            </p:nvSpPr>
            <p:spPr>
              <a:xfrm>
                <a:off x="1143000" y="4029120"/>
                <a:ext cx="361800" cy="285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  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VALID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47920" y="4114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ourier New"/>
                  </a:rPr>
                  <a:t>10/0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1143000" y="4343400"/>
                <a:ext cx="361800" cy="285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FROM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  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2814480" y="4029120"/>
                <a:ext cx="581040" cy="285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   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EXPIRES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2824200" y="4343400"/>
                <a:ext cx="276120" cy="285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END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   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305160" y="4114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Courier New"/>
                  </a:rPr>
                  <a:t>03/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152360" y="45370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Courier New"/>
                </a:rPr>
                <a:t>John Sm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can sa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sh, posing poofters are pretentious pansies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st, 5 times withou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mbling then co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ong to our nex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eting to collec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ri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the Church,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e and Bigo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whe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d out why 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ur next meet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5" name="condemned" descr=""/>
          <p:cNvPicPr/>
          <p:nvPr/>
        </p:nvPicPr>
        <p:blipFill>
          <a:blip r:embed="rId1"/>
          <a:stretch/>
        </p:blipFill>
        <p:spPr>
          <a:xfrm>
            <a:off x="992160" y="2084400"/>
            <a:ext cx="339552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t’s so big!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w wit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0 memb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ll you b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mber 151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aversion therap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not cure heterosexuality then what makes idiots believe it might work with homosexuality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833640" y="2529000"/>
            <a:ext cx="827280" cy="979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158920" y="2495520"/>
            <a:ext cx="1316160" cy="10065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857160" y="2419200"/>
            <a:ext cx="800280" cy="1086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681120" y="3638520"/>
            <a:ext cx="42796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willing to throw away that old close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not build an extension onto it inste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in Thursday at 8pm for a free estim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lso have a wide range of saunas, f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tchens, hi-fi systems and lots mor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 your closet more comfor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3960" y="1752480"/>
            <a:ext cx="4145040" cy="4732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0720" y="5705640"/>
            <a:ext cx="4140360" cy="78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% discount on production of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eer Society membership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960" y="1758960"/>
            <a:ext cx="41371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ing all closet que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at first you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n't succee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n suck unti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 do suck see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pic for this week’s debat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t the ga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munity hold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igion in ba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ith”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ve you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ot a que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science?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you want t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 a head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n come t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ur next meet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pice up y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x life. Put som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ili peppers into your lubricant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xt meeting: Thursday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ng your ow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ili pepp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866880" y="551484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05280" y="55148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elibate bisexual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n’t give a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u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either wa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e and get it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ee coffee and bage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 the next meet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eet t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one specia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635040" y="2298600"/>
            <a:ext cx="304920" cy="314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0400" y="2711520"/>
            <a:ext cx="463680" cy="14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21085800">
            <a:off x="666720" y="1761840"/>
            <a:ext cx="235080" cy="11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62440" y="1295280"/>
            <a:ext cx="203400" cy="290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29240" y="2292480"/>
            <a:ext cx="20304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693000">
            <a:off x="4648320" y="1397160"/>
            <a:ext cx="20304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ersonals" descr=""/>
          <p:cNvPicPr/>
          <p:nvPr/>
        </p:nvPicPr>
        <p:blipFill>
          <a:blip r:embed="rId1"/>
          <a:stretch/>
        </p:blipFill>
        <p:spPr>
          <a:xfrm>
            <a:off x="676440" y="1600200"/>
            <a:ext cx="4305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9 out of 10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ts say their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emale owner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efer puss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everyo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e que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unfortunate bu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’s the way it 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luck nex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incarn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43040" y="50958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509580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ndustrial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trength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lubricant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test th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destr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lephone sex lines: value for money or just a waste of 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u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ing time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pic for group discussion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ing Kong mee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Size Queen”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ditions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668520" y="1665360"/>
            <a:ext cx="4302000" cy="4593600"/>
            <a:chOff x="668520" y="1665360"/>
            <a:chExt cx="4302000" cy="4593600"/>
          </a:xfrm>
        </p:grpSpPr>
        <p:sp>
          <p:nvSpPr>
            <p:cNvPr id="405" name=""/>
            <p:cNvSpPr/>
            <p:nvPr/>
          </p:nvSpPr>
          <p:spPr>
            <a:xfrm rot="21451200">
              <a:off x="696240" y="1753560"/>
              <a:ext cx="4114800" cy="1371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21451200">
              <a:off x="774000" y="1753560"/>
              <a:ext cx="3962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8800" spc="-1" strike="noStrike">
                  <a:solidFill>
                    <a:srgbClr val="ffffff"/>
                  </a:solidFill>
                  <a:latin typeface="Arial Black"/>
                </a:rPr>
                <a:t>SALE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21451200">
              <a:off x="869400" y="3351960"/>
              <a:ext cx="396252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Pick up an attitude for that new you:</a:t>
              </a:r>
              <a:br>
                <a:rPr sz="1400"/>
              </a:br>
              <a:br>
                <a:rPr sz="1400"/>
              </a:b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     Femme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……… $3.99</a:t>
              </a:r>
              <a:br>
                <a:rPr sz="1400"/>
              </a:b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     Butch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……… $4.49</a:t>
              </a:r>
              <a:br>
                <a:rPr sz="1400"/>
              </a:b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     Camp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……… $3.99</a:t>
              </a:r>
              <a:br>
                <a:rPr sz="1400"/>
              </a:b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     Macho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……… $0.99 (final stock clearance)</a:t>
              </a:r>
              <a:br>
                <a:rPr sz="1400"/>
              </a:br>
              <a:br>
                <a:rPr sz="1400"/>
              </a:b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We also have a wide range of comfortable women’s shoes in stock.</a:t>
              </a:r>
              <a:br>
                <a:rPr sz="1400"/>
              </a:br>
              <a:br>
                <a:rPr sz="1400"/>
              </a:br>
              <a:r>
                <a:rPr b="0" lang="en-IE" sz="1400" spc="-1" strike="noStrike">
                  <a:solidFill>
                    <a:srgbClr val="000000"/>
                  </a:solidFill>
                  <a:latin typeface="Arial"/>
                </a:rPr>
                <a:t>Queer Society: the one-stop shop for all your attitude requir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1451200">
              <a:off x="762120" y="1752120"/>
              <a:ext cx="4114800" cy="4419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de the salami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ctors and nurses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in the bottle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&amp; other party games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sexua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nja Turt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bix Cubes..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other fads discussed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men join no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get discoun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 evening classes in car mechanic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t car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&amp; body buil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 we a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med of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ing poofter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 on your nelly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rbils: hints a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chniques for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afer fun”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lk by leading exper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n heterosexuality be cured?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lk by leading exper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appy Bisexua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lentine’s Da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19200" y="4638600"/>
            <a:ext cx="1800000" cy="200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542960" y="4638600"/>
            <a:ext cx="8762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95320" y="2971800"/>
            <a:ext cx="3200400" cy="3181320"/>
          </a:xfrm>
          <a:custGeom>
            <a:avLst/>
            <a:gdLst>
              <a:gd name="textAreaLeft" fmla="*/ 752040 w 3200400"/>
              <a:gd name="textAreaRight" fmla="*/ 2446200 w 3200400"/>
              <a:gd name="textAreaTop" fmla="*/ 374040 h 3181320"/>
              <a:gd name="textAreaBottom" fmla="*/ 1995480 h 3181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048120" y="3233880"/>
            <a:ext cx="1743120" cy="10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429080" y="3195720"/>
            <a:ext cx="290520" cy="242640"/>
            <a:chOff x="4429080" y="3195720"/>
            <a:chExt cx="290520" cy="242640"/>
          </a:xfrm>
        </p:grpSpPr>
        <p:sp>
          <p:nvSpPr>
            <p:cNvPr id="426" name=""/>
            <p:cNvSpPr/>
            <p:nvPr/>
          </p:nvSpPr>
          <p:spPr>
            <a:xfrm flipV="1">
              <a:off x="4572000" y="3195720"/>
              <a:ext cx="14760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4510080" y="3200040"/>
              <a:ext cx="118800" cy="1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429080" y="3233880"/>
              <a:ext cx="114120" cy="20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429800" y="3318480"/>
            <a:ext cx="355680" cy="133560"/>
            <a:chOff x="4429800" y="3318480"/>
            <a:chExt cx="355680" cy="133560"/>
          </a:xfrm>
        </p:grpSpPr>
        <p:sp>
          <p:nvSpPr>
            <p:cNvPr id="430" name=""/>
            <p:cNvSpPr/>
            <p:nvPr/>
          </p:nvSpPr>
          <p:spPr>
            <a:xfrm flipV="1">
              <a:off x="4571280" y="3318480"/>
              <a:ext cx="214200" cy="4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11880" y="3394800"/>
              <a:ext cx="224280" cy="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29800" y="3448440"/>
              <a:ext cx="234360" cy="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you know wh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ght have caus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to be straight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cause we’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ggered if we know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t bi chicks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y best mate went down on me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other heterosexual male fantasies explored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es aversion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apy work?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ee form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terosexuals att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its effective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Thursday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ve you ever wanted to go camping but couldn’t afford it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 now you can. For just $2 membership, you can camp it up every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are as straigh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 an arr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895320" y="2276640"/>
            <a:ext cx="3895920" cy="1253880"/>
          </a:xfrm>
          <a:custGeom>
            <a:avLst/>
            <a:gdLst/>
            <a:ahLst/>
            <a:rect l="l" t="t" r="r" b="b"/>
            <a:pathLst>
              <a:path w="2454" h="790">
                <a:moveTo>
                  <a:pt x="0" y="426"/>
                </a:moveTo>
                <a:cubicBezTo>
                  <a:pt x="63" y="435"/>
                  <a:pt x="127" y="445"/>
                  <a:pt x="162" y="426"/>
                </a:cubicBezTo>
                <a:cubicBezTo>
                  <a:pt x="197" y="407"/>
                  <a:pt x="189" y="343"/>
                  <a:pt x="210" y="312"/>
                </a:cubicBezTo>
                <a:cubicBezTo>
                  <a:pt x="231" y="281"/>
                  <a:pt x="249" y="242"/>
                  <a:pt x="288" y="240"/>
                </a:cubicBezTo>
                <a:cubicBezTo>
                  <a:pt x="327" y="238"/>
                  <a:pt x="415" y="270"/>
                  <a:pt x="444" y="300"/>
                </a:cubicBezTo>
                <a:cubicBezTo>
                  <a:pt x="473" y="330"/>
                  <a:pt x="415" y="381"/>
                  <a:pt x="462" y="420"/>
                </a:cubicBezTo>
                <a:cubicBezTo>
                  <a:pt x="509" y="459"/>
                  <a:pt x="671" y="539"/>
                  <a:pt x="726" y="534"/>
                </a:cubicBezTo>
                <a:cubicBezTo>
                  <a:pt x="781" y="529"/>
                  <a:pt x="758" y="439"/>
                  <a:pt x="792" y="390"/>
                </a:cubicBezTo>
                <a:cubicBezTo>
                  <a:pt x="826" y="341"/>
                  <a:pt x="856" y="304"/>
                  <a:pt x="930" y="240"/>
                </a:cubicBezTo>
                <a:cubicBezTo>
                  <a:pt x="1004" y="176"/>
                  <a:pt x="1165" y="12"/>
                  <a:pt x="1236" y="6"/>
                </a:cubicBezTo>
                <a:cubicBezTo>
                  <a:pt x="1307" y="0"/>
                  <a:pt x="1302" y="86"/>
                  <a:pt x="1356" y="204"/>
                </a:cubicBezTo>
                <a:cubicBezTo>
                  <a:pt x="1410" y="322"/>
                  <a:pt x="1484" y="638"/>
                  <a:pt x="1560" y="714"/>
                </a:cubicBezTo>
                <a:cubicBezTo>
                  <a:pt x="1636" y="790"/>
                  <a:pt x="1733" y="715"/>
                  <a:pt x="1812" y="660"/>
                </a:cubicBezTo>
                <a:cubicBezTo>
                  <a:pt x="1891" y="605"/>
                  <a:pt x="1972" y="425"/>
                  <a:pt x="2034" y="384"/>
                </a:cubicBezTo>
                <a:cubicBezTo>
                  <a:pt x="2096" y="343"/>
                  <a:pt x="2114" y="411"/>
                  <a:pt x="2184" y="414"/>
                </a:cubicBezTo>
                <a:cubicBezTo>
                  <a:pt x="2254" y="417"/>
                  <a:pt x="2354" y="409"/>
                  <a:pt x="2454" y="40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irror mirror on the wall. Who’s the queerest of them all?”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d out fo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self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 on, be elitist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oin the 10% club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mbershi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ill only $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stity: a was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k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pportunity?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group discus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’m coming!”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you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ing to ou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xt meeting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week’s movie 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me like it hot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2" name="chili-lubricant" descr=""/>
          <p:cNvPicPr/>
          <p:nvPr/>
        </p:nvPicPr>
        <p:blipFill>
          <a:blip r:embed="rId1"/>
          <a:srcRect l="10212" t="27887" r="6150" b="22966"/>
          <a:stretch/>
        </p:blipFill>
        <p:spPr>
          <a:xfrm>
            <a:off x="593640" y="2975040"/>
            <a:ext cx="44020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vegetarians reall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ste better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d out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e compa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getarians an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t eaters in 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d-to-hea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are we queer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% natu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% nurtu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8% good luck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ll people are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er but some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re more queer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an other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raight dow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lin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66720" y="2274840"/>
            <a:ext cx="4124520" cy="1052640"/>
          </a:xfrm>
          <a:custGeom>
            <a:avLst/>
            <a:gdLst/>
            <a:ahLst/>
            <a:rect l="l" t="t" r="r" b="b"/>
            <a:pathLst>
              <a:path w="2598" h="663">
                <a:moveTo>
                  <a:pt x="0" y="439"/>
                </a:moveTo>
                <a:cubicBezTo>
                  <a:pt x="21" y="440"/>
                  <a:pt x="87" y="428"/>
                  <a:pt x="126" y="445"/>
                </a:cubicBezTo>
                <a:cubicBezTo>
                  <a:pt x="165" y="462"/>
                  <a:pt x="192" y="601"/>
                  <a:pt x="234" y="541"/>
                </a:cubicBezTo>
                <a:cubicBezTo>
                  <a:pt x="276" y="481"/>
                  <a:pt x="312" y="168"/>
                  <a:pt x="378" y="85"/>
                </a:cubicBezTo>
                <a:cubicBezTo>
                  <a:pt x="444" y="2"/>
                  <a:pt x="604" y="0"/>
                  <a:pt x="630" y="43"/>
                </a:cubicBezTo>
                <a:cubicBezTo>
                  <a:pt x="656" y="86"/>
                  <a:pt x="523" y="266"/>
                  <a:pt x="534" y="343"/>
                </a:cubicBezTo>
                <a:cubicBezTo>
                  <a:pt x="545" y="420"/>
                  <a:pt x="647" y="453"/>
                  <a:pt x="696" y="505"/>
                </a:cubicBezTo>
                <a:cubicBezTo>
                  <a:pt x="745" y="557"/>
                  <a:pt x="781" y="655"/>
                  <a:pt x="828" y="655"/>
                </a:cubicBezTo>
                <a:cubicBezTo>
                  <a:pt x="875" y="655"/>
                  <a:pt x="955" y="571"/>
                  <a:pt x="978" y="505"/>
                </a:cubicBezTo>
                <a:cubicBezTo>
                  <a:pt x="1001" y="439"/>
                  <a:pt x="950" y="320"/>
                  <a:pt x="966" y="259"/>
                </a:cubicBezTo>
                <a:cubicBezTo>
                  <a:pt x="982" y="198"/>
                  <a:pt x="1026" y="152"/>
                  <a:pt x="1074" y="139"/>
                </a:cubicBezTo>
                <a:cubicBezTo>
                  <a:pt x="1122" y="126"/>
                  <a:pt x="1226" y="131"/>
                  <a:pt x="1254" y="181"/>
                </a:cubicBezTo>
                <a:cubicBezTo>
                  <a:pt x="1282" y="231"/>
                  <a:pt x="1218" y="360"/>
                  <a:pt x="1242" y="439"/>
                </a:cubicBezTo>
                <a:cubicBezTo>
                  <a:pt x="1266" y="518"/>
                  <a:pt x="1351" y="657"/>
                  <a:pt x="1398" y="655"/>
                </a:cubicBezTo>
                <a:cubicBezTo>
                  <a:pt x="1445" y="653"/>
                  <a:pt x="1495" y="528"/>
                  <a:pt x="1524" y="427"/>
                </a:cubicBezTo>
                <a:cubicBezTo>
                  <a:pt x="1553" y="326"/>
                  <a:pt x="1527" y="90"/>
                  <a:pt x="1572" y="49"/>
                </a:cubicBezTo>
                <a:cubicBezTo>
                  <a:pt x="1617" y="8"/>
                  <a:pt x="1739" y="127"/>
                  <a:pt x="1794" y="181"/>
                </a:cubicBezTo>
                <a:cubicBezTo>
                  <a:pt x="1849" y="235"/>
                  <a:pt x="1875" y="293"/>
                  <a:pt x="1902" y="373"/>
                </a:cubicBezTo>
                <a:cubicBezTo>
                  <a:pt x="1929" y="453"/>
                  <a:pt x="1910" y="659"/>
                  <a:pt x="1956" y="661"/>
                </a:cubicBezTo>
                <a:cubicBezTo>
                  <a:pt x="2002" y="663"/>
                  <a:pt x="2116" y="449"/>
                  <a:pt x="2178" y="385"/>
                </a:cubicBezTo>
                <a:cubicBezTo>
                  <a:pt x="2240" y="321"/>
                  <a:pt x="2291" y="277"/>
                  <a:pt x="2328" y="277"/>
                </a:cubicBezTo>
                <a:cubicBezTo>
                  <a:pt x="2365" y="277"/>
                  <a:pt x="2355" y="364"/>
                  <a:pt x="2400" y="385"/>
                </a:cubicBezTo>
                <a:cubicBezTo>
                  <a:pt x="2445" y="406"/>
                  <a:pt x="2557" y="399"/>
                  <a:pt x="2598" y="40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you want to be with the “in” crowd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, make sure yo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our meeting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cause that’s whe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“out” crow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ngs ou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sleep for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wicked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night orgy starts 8pm on Thursda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actice sess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r homosexual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 takes ball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be a fairy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801720" y="1295280"/>
          <a:ext cx="3902040" cy="34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1295280"/>
                    <a:ext cx="390204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e along to ou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xt meeting t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ence carna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ust and o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ces of the flesh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lling all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undamentalist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e to our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&amp; explore your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undament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deling practic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r lesbia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nning linguist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 you ever want to be queen for a day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, your drea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uld come true th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rsday at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litant homosexua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ining. Learn usefu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kills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to ram your sexuality down people’s throa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straight-bashing techniqu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p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 you tir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straight peop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essantly flaunt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ir sexuality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cape from it al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Thursday at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.I.Y.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afer-sex demo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don’t know if i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accurate t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y that we ar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ll bent 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truction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ut the “bent” part is accurat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467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ternational gay cuisi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iry cak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eam Puff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r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ssed sala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ggots in grav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otted dic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eam of Sum Yung Gu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is no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ch thing a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free lunch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ever, we a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viding free coffe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bagels th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rsday at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ake it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ke a man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Y, Probe, We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Astroglid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put them to th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st this we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olunteers want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1" lang="en-US" sz="1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other interesting numbers explor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e don’t admit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e are queer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sser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t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ircle jerk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rsday 8p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ll you be m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ght hand m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ungeons and Drag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ctors and nurs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sculine and femini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p and botto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 &amp; 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 &amp; 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other role play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mes explor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d of term par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, music, drink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lly dancing, orgies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883080" y="2073240"/>
            <a:ext cx="2730240" cy="1859760"/>
            <a:chOff x="883080" y="2073240"/>
            <a:chExt cx="2730240" cy="1859760"/>
          </a:xfrm>
        </p:grpSpPr>
        <p:sp>
          <p:nvSpPr>
            <p:cNvPr id="498" name=""/>
            <p:cNvSpPr/>
            <p:nvPr/>
          </p:nvSpPr>
          <p:spPr>
            <a:xfrm rot="20983800">
              <a:off x="1059840" y="2315160"/>
              <a:ext cx="2362320" cy="129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0983800">
              <a:off x="990720" y="2285640"/>
              <a:ext cx="2514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4400" spc="-1" strike="noStrike">
                  <a:solidFill>
                    <a:srgbClr val="ffffff"/>
                  </a:solidFill>
                  <a:latin typeface="Arial Black"/>
                </a:rPr>
                <a:t>LOUD</a:t>
              </a:r>
              <a:r>
                <a:rPr b="1" lang="en-IE" sz="10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IE" sz="4400" spc="-1" strike="noStrike">
                  <a:solidFill>
                    <a:srgbClr val="ffffff"/>
                  </a:solidFill>
                  <a:latin typeface="Arial Black"/>
                </a:rPr>
                <a:t>&amp;</a:t>
              </a:r>
              <a:br>
                <a:rPr sz="4400"/>
              </a:br>
              <a:r>
                <a:rPr b="1" lang="en-IE" sz="4400" spc="-1" strike="noStrike">
                  <a:solidFill>
                    <a:srgbClr val="ffffff"/>
                  </a:solidFill>
                  <a:latin typeface="Arial Black"/>
                </a:rPr>
                <a:t>QUE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1523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29000" y="15080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25750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720000">
            <a:off x="2057040" y="914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6095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20975400">
            <a:off x="838080" y="624816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62320" y="3429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 climax!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d of term par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ng your ow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oze and rememb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ttoms up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imme gimme gimme 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n after midnight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ncing Queen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yboy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 by your man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other gre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gs at the en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erm par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31:55Z</dcterms:created>
  <dc:creator/>
  <dc:description/>
  <dc:language>en-US</dc:language>
  <cp:lastModifiedBy>Ciaran McHale</cp:lastModifiedBy>
  <dcterms:modified xsi:type="dcterms:W3CDTF">2009-02-15T08:30:59Z</dcterms:modified>
  <cp:revision>198</cp:revision>
  <dc:subject/>
  <dc:title>PowerPoint Presentation</dc:title>
</cp:coreProperties>
</file>