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BD7-56CE-4C54-9DE3-B6FAFAEB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B5C-E566-47F7-B2F7-1A928947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D4B-9037-4E11-9FFA-6C3ED621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CF6-844A-47E8-8CA1-64A9E4E7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356-4C76-45C6-AB5F-68F93796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1FC-FD4D-4B1C-9995-F57F2E6E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362-A0CA-4338-8AC3-4DE5EAC1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4A5-89B2-423D-B226-7D9DAF96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D36-51E2-4233-9E54-66E4B1E3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BCC-9072-4C29-ACD5-F3BDE709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D18-FE6E-478D-AF56-657B2C61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1D4-3DC9-4F72-B934-2BA23D5A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0458-EC79-49BF-A785-7E4F92FB6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85800"/>
            <a:ext cx="7620120" cy="20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Playing Cards"/>
              </a:rPr>
              <a:t>NaLYly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198240" y="3427920"/>
            <a:ext cx="2567880" cy="2617920"/>
            <a:chOff x="3198240" y="3427920"/>
            <a:chExt cx="2567880" cy="2617920"/>
          </a:xfrm>
        </p:grpSpPr>
        <p:grpSp>
          <p:nvGrpSpPr>
            <p:cNvPr id="43" name=""/>
            <p:cNvGrpSpPr/>
            <p:nvPr/>
          </p:nvGrpSpPr>
          <p:grpSpPr>
            <a:xfrm>
              <a:off x="3198240" y="3427920"/>
              <a:ext cx="2086200" cy="2473920"/>
              <a:chOff x="3198240" y="3427920"/>
              <a:chExt cx="2086200" cy="2473920"/>
            </a:xfrm>
          </p:grpSpPr>
          <p:sp>
            <p:nvSpPr>
              <p:cNvPr id="44" name=""/>
              <p:cNvSpPr/>
              <p:nvPr/>
            </p:nvSpPr>
            <p:spPr>
              <a:xfrm rot="20178000">
                <a:off x="3523680" y="363528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0178000">
                <a:off x="3756240" y="3723120"/>
                <a:ext cx="109368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a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3485880" y="3511080"/>
              <a:ext cx="1938240" cy="2445840"/>
              <a:chOff x="3485880" y="3511080"/>
              <a:chExt cx="1938240" cy="2445840"/>
            </a:xfrm>
          </p:grpSpPr>
          <p:sp>
            <p:nvSpPr>
              <p:cNvPr id="47" name=""/>
              <p:cNvSpPr/>
              <p:nvPr/>
            </p:nvSpPr>
            <p:spPr>
              <a:xfrm rot="20681400">
                <a:off x="3713760" y="366624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20681400">
                <a:off x="3762720" y="3761280"/>
                <a:ext cx="141660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N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89000" y="3650040"/>
              <a:ext cx="1696680" cy="2300760"/>
              <a:chOff x="3789000" y="3650040"/>
              <a:chExt cx="1696680" cy="2300760"/>
            </a:xfrm>
          </p:grpSpPr>
          <p:sp>
            <p:nvSpPr>
              <p:cNvPr id="50" name=""/>
              <p:cNvSpPr/>
              <p:nvPr/>
            </p:nvSpPr>
            <p:spPr>
              <a:xfrm rot="21103800">
                <a:off x="3919680" y="374328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21103800">
                <a:off x="4141080" y="3841920"/>
                <a:ext cx="103248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L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044600" y="3760200"/>
              <a:ext cx="1515240" cy="2196720"/>
              <a:chOff x="4044600" y="3760200"/>
              <a:chExt cx="1515240" cy="2196720"/>
            </a:xfrm>
          </p:grpSpPr>
          <p:sp>
            <p:nvSpPr>
              <p:cNvPr id="53" name=""/>
              <p:cNvSpPr/>
              <p:nvPr/>
            </p:nvSpPr>
            <p:spPr>
              <a:xfrm rot="21454200">
                <a:off x="4084560" y="378972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454200">
                <a:off x="4255200" y="3889440"/>
                <a:ext cx="110124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Y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214160" y="3829320"/>
              <a:ext cx="1551960" cy="2216520"/>
              <a:chOff x="4214160" y="3829320"/>
              <a:chExt cx="1551960" cy="2216520"/>
            </a:xfrm>
          </p:grpSpPr>
          <p:sp>
            <p:nvSpPr>
              <p:cNvPr id="56" name=""/>
              <p:cNvSpPr/>
              <p:nvPr/>
            </p:nvSpPr>
            <p:spPr>
              <a:xfrm rot="214800">
                <a:off x="4272480" y="387216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4800">
                <a:off x="4471560" y="3971520"/>
                <a:ext cx="100980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y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2:13:54Z</dcterms:created>
  <dc:creator>cjmchale</dc:creator>
  <dc:description/>
  <dc:language>en-US</dc:language>
  <cp:lastModifiedBy>cjmchale</cp:lastModifiedBy>
  <dcterms:modified xsi:type="dcterms:W3CDTF">2009-02-13T12:14:20Z</dcterms:modified>
  <cp:revision>1</cp:revision>
  <dc:subject/>
  <dc:title>PowerPoint Presentation</dc:title>
</cp:coreProperties>
</file>