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764338"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480" y="6448320"/>
            <a:ext cx="566748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GB"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GB" sz="1800" spc="-1" strike="noStrike">
                <a:solidFill>
                  <a:srgbClr val="000000"/>
                </a:solidFill>
                <a:latin typeface="Arial"/>
              </a:rPr>
              <a:t>Underappreciated Tactics for Fighting Oppression</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9413B4CD-F740-40B6-BDF4-F5D861B5701C}"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68156794-14F1-4E5A-8919-2886B0270AF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040"/>
            <a:ext cx="8858160" cy="98100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Underappreciated Tactics for</a:t>
            </a:r>
            <a:br>
              <a:rPr sz="3600"/>
            </a:br>
            <a:r>
              <a:rPr b="1" lang="en-GB" sz="3600" spc="-1" strike="noStrike">
                <a:solidFill>
                  <a:srgbClr val="000000"/>
                </a:solidFill>
                <a:latin typeface="Arial"/>
              </a:rPr>
              <a:t>Fighting Oppression</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02000" y="66600"/>
            <a:ext cx="2279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onference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local social group might have less than 20 peop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contrast, an annual (inter)national conference might have hundreds or thousands of peopl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larger size of a conference means its benefits are magnifi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inding so many “people like me” in one place can be empower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shops and merchandise stalls can promote the community’s history, values and role model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mix of “social” and “activist” workshops provides interesting varie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ntertainments provided by community members provide a source of pri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04760" y="66600"/>
            <a:ext cx="34671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onferences (cont’)</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call from the </a:t>
            </a:r>
            <a:r>
              <a:rPr b="0" i="1" lang="en-GB" sz="2400" spc="-1" strike="noStrike">
                <a:solidFill>
                  <a:srgbClr val="000000"/>
                </a:solidFill>
                <a:latin typeface="Arial"/>
              </a:rPr>
              <a:t>Clusters, Families and Partners </a:t>
            </a:r>
            <a:r>
              <a:rPr b="0" lang="en-GB" sz="2400" spc="-1" strike="noStrike">
                <a:solidFill>
                  <a:srgbClr val="000000"/>
                </a:solidFill>
                <a:latin typeface="Arial"/>
              </a:rPr>
              <a:t>chap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ccasionally, interactions between people with common interests produce synerg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annual conference provides opportunities for synerg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conference, by itself, can be enjoyable, informative, empower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networking and collaborations </a:t>
            </a:r>
            <a:r>
              <a:rPr b="0" i="1" lang="en-GB" sz="2000" spc="-1" strike="noStrike">
                <a:solidFill>
                  <a:srgbClr val="000000"/>
                </a:solidFill>
                <a:latin typeface="Arial"/>
              </a:rPr>
              <a:t>resulting </a:t>
            </a:r>
            <a:r>
              <a:rPr b="0" lang="en-GB" sz="2000" spc="-1" strike="noStrike">
                <a:solidFill>
                  <a:srgbClr val="000000"/>
                </a:solidFill>
                <a:latin typeface="Arial"/>
              </a:rPr>
              <a:t>from people meeting at the conference can be even more importa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ferences often suffer from the same underappreciation as social grou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Fred stops attending an annual confere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does not realize that </a:t>
            </a:r>
            <a:r>
              <a:rPr b="0" i="1" lang="en-GB" sz="2000" spc="-1" strike="noStrike">
                <a:solidFill>
                  <a:srgbClr val="000000"/>
                </a:solidFill>
                <a:latin typeface="Arial"/>
              </a:rPr>
              <a:t>he </a:t>
            </a:r>
            <a:r>
              <a:rPr b="0" lang="en-GB" sz="2000" spc="-1" strike="noStrike">
                <a:solidFill>
                  <a:srgbClr val="000000"/>
                </a:solidFill>
                <a:latin typeface="Arial"/>
              </a:rPr>
              <a:t>has changed and outgrown the confere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he thinks the conference is “not as good as it used to b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isunderstanding makes Fred reluctant to recommend the conference to 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Document a group’s history and cul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49320" y="66600"/>
            <a:ext cx="7267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Documentation can challenge stereotypes</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erogatory stereotypes exist about every oppressed group.</a:t>
            </a:r>
            <a:br>
              <a:rPr sz="2400"/>
            </a:br>
            <a:r>
              <a:rPr b="0" lang="en-GB" sz="2400" spc="-1" strike="noStrike">
                <a:solidFill>
                  <a:srgbClr val="000000"/>
                </a:solidFill>
                <a:latin typeface="Arial"/>
              </a:rPr>
              <a:t>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Lazy, unintelligent, criminals, terrorists, sexually promiscuous, rapists, child molesters, hedonists, viole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stereotypes can be challenged if the oppressed group docume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sitive aspects of their own cultur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ir achievements in science, art, music, movies, sports, business, charity, campaigning for human rights and so 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iographies of their people who lead eventful and interesting liv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thologies of personal accounts about oppression and pri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09480" y="66600"/>
            <a:ext cx="6056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mportance of such documentation</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y can help to raise the self esteem and lower internalised oppression of individuals </a:t>
            </a:r>
            <a:r>
              <a:rPr b="0" i="1" lang="en-GB" sz="2400" spc="-1" strike="noStrike">
                <a:solidFill>
                  <a:srgbClr val="000000"/>
                </a:solidFill>
                <a:latin typeface="Arial"/>
              </a:rPr>
              <a:t>within </a:t>
            </a:r>
            <a:r>
              <a:rPr b="0" lang="en-GB" sz="2400" spc="-1" strike="noStrike">
                <a:solidFill>
                  <a:srgbClr val="000000"/>
                </a:solidFill>
                <a:latin typeface="Arial"/>
              </a:rPr>
              <a:t>the oppressed group</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ocumentation of recent history (last 10 or 20 years) can show progress in reducing oppress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an be a morale boost to activists who do not see progress on a week-by-week basi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instream historians often fail to document the history of oppressed 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64920" y="66600"/>
            <a:ext cx="5978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bstacles for such documentation</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y are rarely read by people </a:t>
            </a:r>
            <a:r>
              <a:rPr b="0" i="1" lang="en-US" sz="2400" spc="-1" strike="noStrike">
                <a:solidFill>
                  <a:srgbClr val="000000"/>
                </a:solidFill>
                <a:latin typeface="Arial"/>
              </a:rPr>
              <a:t>outside</a:t>
            </a:r>
            <a:r>
              <a:rPr b="0" lang="en-US" sz="2400" spc="-1" strike="noStrike">
                <a:solidFill>
                  <a:srgbClr val="000000"/>
                </a:solidFill>
                <a:latin typeface="Arial"/>
              </a:rPr>
              <a:t> the oppressed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re are occasional exceptions, such as </a:t>
            </a:r>
            <a:r>
              <a:rPr b="0" i="1" lang="en-US" sz="2000" spc="-1" strike="noStrike">
                <a:solidFill>
                  <a:srgbClr val="000000"/>
                </a:solidFill>
                <a:latin typeface="Arial"/>
              </a:rPr>
              <a:t>Roots </a:t>
            </a:r>
            <a:r>
              <a:rPr b="0" lang="en-US" sz="2000" spc="-1" strike="noStrike">
                <a:solidFill>
                  <a:srgbClr val="000000"/>
                </a:solidFill>
                <a:latin typeface="Arial"/>
              </a:rPr>
              <a:t>by Alex Hale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limited readership mea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ny bookshops do not stock “special interest” titles that sell poorl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uch books quickly go out of pri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books have to be rewritten for each genera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thologies of personal accounts written recently are more relevant for readers than similar anthologies written 50 years 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6600"/>
            <a:ext cx="6988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ercise (to be done outside the course)</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ook for books about an oppressed group on Amazon</a:t>
            </a:r>
            <a:br>
              <a:rPr sz="2400"/>
            </a:br>
            <a:r>
              <a:rPr b="0" lang="en-US" sz="2400" spc="-1" strike="noStrike">
                <a:solidFill>
                  <a:srgbClr val="000000"/>
                </a:solidFill>
                <a:latin typeface="Arial"/>
              </a:rPr>
              <a:t>(www.amazon.com)</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stimate how well or badly such books sell</a:t>
            </a:r>
            <a:br>
              <a:rPr sz="2400"/>
            </a:br>
            <a:r>
              <a:rPr b="0" lang="en-US" sz="2400" spc="-1" strike="noStrike">
                <a:solidFill>
                  <a:srgbClr val="000000"/>
                </a:solidFill>
                <a:latin typeface="Arial"/>
              </a:rPr>
              <a:t>(Amazon’s “sales rank”)</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ow many of these books are “unavailable” (out of print)</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s there any way to keep such books available for future gener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e possible answer is on the next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44400" y="66600"/>
            <a:ext cx="6018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ggested solution to the exercise</a:t>
            </a:r>
            <a:endParaRPr b="1" lang="en-US" sz="2800" spc="-1" strike="noStrike">
              <a:solidFill>
                <a:srgbClr val="000000"/>
              </a:solidFill>
              <a:latin typeface="Arial"/>
            </a:endParaRPr>
          </a:p>
        </p:txBody>
      </p:sp>
      <p:sp>
        <p:nvSpPr>
          <p:cNvPr id="11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ugges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reate a website to act as a centralized archive of community-specific biographies, histories and personal accou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ack down the copyright holders of such books that are out of prin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sk them to add HTML and PDF versions of the books to the archiv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courage future authors of such books to do likewise</a:t>
            </a:r>
            <a:br>
              <a:rPr sz="2000"/>
            </a:br>
            <a:r>
              <a:rPr b="0" lang="en-US" sz="2000" spc="-1" strike="noStrike">
                <a:solidFill>
                  <a:srgbClr val="000000"/>
                </a:solidFill>
                <a:latin typeface="Arial"/>
              </a:rPr>
              <a:t>(they will forego insignificant royalties to get a wider readershi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onus sugges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tudy </a:t>
            </a:r>
            <a:r>
              <a:rPr b="0" i="1" lang="en-US" sz="2000" spc="-1" strike="noStrike">
                <a:solidFill>
                  <a:srgbClr val="000000"/>
                </a:solidFill>
                <a:latin typeface="Arial"/>
              </a:rPr>
              <a:t>print-on-demand </a:t>
            </a:r>
            <a:r>
              <a:rPr b="0" lang="en-US" sz="2000" spc="-1" strike="noStrike">
                <a:solidFill>
                  <a:srgbClr val="000000"/>
                </a:solidFill>
                <a:latin typeface="Arial"/>
              </a:rPr>
              <a:t>technologies</a:t>
            </a:r>
            <a:br>
              <a:rPr sz="2000"/>
            </a:br>
            <a:r>
              <a:rPr b="0" lang="en-US" sz="2000" spc="-1" strike="noStrike">
                <a:solidFill>
                  <a:srgbClr val="000000"/>
                </a:solidFill>
                <a:latin typeface="Arial"/>
              </a:rPr>
              <a:t>(ability to print and bind a single copy of a book on an as-needed bas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dd a print-on-demand service to the websit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 this way, authors and the website can make some money from books that have a limited readershi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pand the website so it covers books for </a:t>
            </a:r>
            <a:r>
              <a:rPr b="0" i="1" lang="en-US" sz="2000" spc="-1" strike="noStrike">
                <a:solidFill>
                  <a:srgbClr val="000000"/>
                </a:solidFill>
                <a:latin typeface="Arial"/>
              </a:rPr>
              <a:t>many </a:t>
            </a:r>
            <a:r>
              <a:rPr b="0" lang="en-US" sz="2000" spc="-1" strike="noStrike">
                <a:solidFill>
                  <a:srgbClr val="000000"/>
                </a:solidFill>
                <a:latin typeface="Arial"/>
              </a:rPr>
              <a:t>oppressed groups</a:t>
            </a:r>
            <a:br>
              <a:rPr sz="2000"/>
            </a:br>
            <a:r>
              <a:rPr b="0" lang="en-US" sz="2000" spc="-1" strike="noStrike">
                <a:solidFill>
                  <a:srgbClr val="000000"/>
                </a:solidFill>
                <a:latin typeface="Arial"/>
              </a:rPr>
              <a:t>(this scalability may make it a sustainable busi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4. End reliance on your oppressor for fu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5200" y="66600"/>
            <a:ext cx="7456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nd reliance on your oppressor for funding</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 important principle to keep in mind is th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n’t ask your oppressor to fund your revolu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t may not be possible to live up to that ide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t over time you should try to reduce your reliance on funding from your oppresso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hen you accept funding from your oppressor the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may have to engage in self-censorship</a:t>
            </a:r>
            <a:br>
              <a:rPr sz="2000"/>
            </a:br>
            <a:r>
              <a:rPr b="0" lang="en-US" sz="2000" spc="-1" strike="noStrike">
                <a:solidFill>
                  <a:srgbClr val="000000"/>
                </a:solidFill>
                <a:latin typeface="Arial"/>
              </a:rPr>
              <a:t>(otherwise the funding might be cut of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may have to deal with extra bureaucracy</a:t>
            </a:r>
            <a:br>
              <a:rPr sz="2000"/>
            </a:br>
            <a:r>
              <a:rPr b="0" lang="en-US" sz="2000" spc="-1" strike="noStrike">
                <a:solidFill>
                  <a:srgbClr val="000000"/>
                </a:solidFill>
                <a:latin typeface="Arial"/>
              </a:rPr>
              <a:t>(to satisfy the funding organization that the money is being spent wel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funding suddenly stops, your organization may not be able to surv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84400" y="66600"/>
            <a:ext cx="4927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Black Like Me</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rom the “December 7” chapter in </a:t>
            </a:r>
            <a:r>
              <a:rPr b="0" i="1" lang="en-US" sz="2400" spc="-1" strike="noStrike">
                <a:solidFill>
                  <a:srgbClr val="000000"/>
                </a:solidFill>
                <a:latin typeface="Arial"/>
              </a:rPr>
              <a:t>Black Like Me</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wo black economis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recognized that so long as the Negro had to depend on white banks to finance his projects for improvement and growth, the race was at the mercy of the white man.”</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lped create two banks in Atlanta financed and run by black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ften, white-owned banks in Atlanta refused to loan money to black people to buy hous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newly created black-owned banks started to provide such lo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ithin a few days, the white-owned banks called to say “Don’t take all that business away from us. How about letting us handle a few of those loan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mportant poi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Just two black banks broke a white-only monopoly on lo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aused white-owned banks to act less oppress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439720" y="66600"/>
            <a:ext cx="4213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John Holt</a:t>
            </a:r>
            <a:endParaRPr b="1" lang="en-US" sz="2800" spc="-1" strike="noStrike">
              <a:solidFill>
                <a:srgbClr val="000000"/>
              </a:solidFill>
              <a:latin typeface="Arial"/>
            </a:endParaRPr>
          </a:p>
        </p:txBody>
      </p:sp>
      <p:sp>
        <p:nvSpPr>
          <p:cNvPr id="12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US Department of Education announced it would give up to $5million per district to fund innovative schoo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12 (“The Failure of School Reform”) in </a:t>
            </a:r>
            <a:r>
              <a:rPr b="0" i="1" lang="en-US" sz="2000" spc="-1" strike="noStrike">
                <a:solidFill>
                  <a:srgbClr val="000000"/>
                </a:solidFill>
                <a:latin typeface="Arial"/>
              </a:rPr>
              <a:t>Instead of Education </a:t>
            </a:r>
            <a:r>
              <a:rPr b="0" lang="en-US" sz="2000" spc="-1" strike="noStrike">
                <a:solidFill>
                  <a:srgbClr val="000000"/>
                </a:solidFill>
                <a:latin typeface="Arial"/>
              </a:rPr>
              <a:t>by John Hol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ss than 1% of schools who applied for funding received 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99% of schools who were denied funding wasted time on the bureaucracy of applying for the fun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hen funding was given, most of the money was used to add extra bureaucracy to coordinate and evaluate the innovatio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innovative schools and teachers, which in their former poverty had at least been left alone to do their work as best they could, now had to spend much of their time explaining and justifying what they were doing. Many of them felt that the federal funding had, if anything, made their work ha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4720" y="66600"/>
            <a:ext cx="57564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the Nation of Islam</a:t>
            </a:r>
            <a:endParaRPr b="1" lang="en-US" sz="2800" spc="-1" strike="noStrike">
              <a:solidFill>
                <a:srgbClr val="000000"/>
              </a:solidFill>
              <a:latin typeface="Arial"/>
            </a:endParaRPr>
          </a:p>
        </p:txBody>
      </p:sp>
      <p:sp>
        <p:nvSpPr>
          <p:cNvPr id="12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 important teaching of the Nation of Islam (NOI) was that black people should work towards financial independ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ny NOI members opened their own business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this way, money could stay within their own community, s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were reducing their financial reliance on white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were not financially supporting their oppresso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84280" y="66600"/>
            <a:ext cx="4330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from Malcolm X</a:t>
            </a:r>
            <a:endParaRPr b="1" lang="en-US" sz="2800" spc="-1" strike="noStrike">
              <a:solidFill>
                <a:srgbClr val="000000"/>
              </a:solidFill>
              <a:latin typeface="Arial"/>
            </a:endParaRPr>
          </a:p>
        </p:txBody>
      </p:sp>
      <p:sp>
        <p:nvSpPr>
          <p:cNvPr id="12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example shows that sometimes you can reduce but not eliminate your dependence on oppressor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lcolm X started a monthly news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5 (“The Interview”) of </a:t>
            </a:r>
            <a:r>
              <a:rPr b="0" i="1" lang="en-US" sz="2000" spc="-1" strike="noStrike">
                <a:solidFill>
                  <a:srgbClr val="000000"/>
                </a:solidFill>
                <a:latin typeface="Arial"/>
              </a:rPr>
              <a:t>To Kill a Black Man </a:t>
            </a:r>
            <a:r>
              <a:rPr b="0" lang="en-US" sz="2000" spc="-1" strike="noStrike">
                <a:solidFill>
                  <a:srgbClr val="000000"/>
                </a:solidFill>
                <a:latin typeface="Arial"/>
              </a:rPr>
              <a:t>by Louis Lomax</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newspaper reported stories relevant to the Nation of Islam (NOI)</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lcolm X could not find writers or editors within the NOI:</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reluctantly asked Louis Lomax (a black man </a:t>
            </a:r>
            <a:r>
              <a:rPr b="0" i="1" lang="en-US" sz="2000" spc="-1" strike="noStrike">
                <a:solidFill>
                  <a:srgbClr val="000000"/>
                </a:solidFill>
                <a:latin typeface="Arial"/>
              </a:rPr>
              <a:t>not</a:t>
            </a:r>
            <a:r>
              <a:rPr b="0" lang="en-US" sz="2000" spc="-1" strike="noStrike">
                <a:solidFill>
                  <a:srgbClr val="000000"/>
                </a:solidFill>
                <a:latin typeface="Arial"/>
              </a:rPr>
              <a:t> in the NOI) who had the relevant skills to hel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were no black-owned printing companies capable of printing the news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reluctantly used a white-owned printing company</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Ways to cope with stress caused by oppr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86000" y="66600"/>
            <a:ext cx="6338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he excessive kindness of strangers</a:t>
            </a:r>
            <a:endParaRPr b="1" lang="en-US" sz="2800" spc="-1" strike="noStrike">
              <a:solidFill>
                <a:srgbClr val="000000"/>
              </a:solidFill>
              <a:latin typeface="Arial"/>
            </a:endParaRPr>
          </a:p>
        </p:txBody>
      </p:sp>
      <p:sp>
        <p:nvSpPr>
          <p:cNvPr id="13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rom </a:t>
            </a:r>
            <a:r>
              <a:rPr b="0" i="1" lang="en-US" sz="2400" spc="-1" strike="noStrike">
                <a:solidFill>
                  <a:srgbClr val="000000"/>
                </a:solidFill>
                <a:latin typeface="Arial"/>
              </a:rPr>
              <a:t>Black Like Me</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 many occasions, the author experienced kindness by black strang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mount of kindness was far greater than he had experienced as a white person among white strang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concluded that “the world outside was so bad for us that we had to counter it among ourselves by salving one another with kindness”</a:t>
            </a:r>
            <a:br>
              <a:rPr sz="2000"/>
            </a:br>
            <a:r>
              <a:rPr b="0" lang="en-US" sz="2000" spc="-1" strike="noStrike">
                <a:solidFill>
                  <a:srgbClr val="000000"/>
                </a:solidFill>
                <a:latin typeface="Arial"/>
              </a:rPr>
              <a:t>(from the “November 7” chap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uch “excessive kindness” is common in oppressed grou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2000" spc="-1" strike="noStrike">
                <a:solidFill>
                  <a:srgbClr val="000000"/>
                </a:solidFill>
                <a:latin typeface="Arial"/>
              </a:rPr>
              <a:t>Defiance </a:t>
            </a:r>
            <a:r>
              <a:rPr b="0" lang="en-US" sz="2000" spc="-1" strike="noStrike">
                <a:solidFill>
                  <a:srgbClr val="000000"/>
                </a:solidFill>
                <a:latin typeface="Arial"/>
              </a:rPr>
              <a:t>by Nechama Tec tells the true story of how 3 Jewish brothers in Poland saved over 1200 Jewish people from the Nazi holocau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hapter 13 (“Keeping Order”) of </a:t>
            </a:r>
            <a:r>
              <a:rPr b="0" i="1" lang="en-US" sz="2000" spc="-1" strike="noStrike">
                <a:solidFill>
                  <a:srgbClr val="000000"/>
                </a:solidFill>
                <a:latin typeface="Arial"/>
              </a:rPr>
              <a:t>Defiance </a:t>
            </a:r>
            <a:r>
              <a:rPr b="0" lang="en-US" sz="2000" spc="-1" strike="noStrike">
                <a:solidFill>
                  <a:srgbClr val="000000"/>
                </a:solidFill>
                <a:latin typeface="Arial"/>
              </a:rPr>
              <a:t>stat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As outside dangers increased, people became more cooperative. In contrast, as soon as they felt more secure, they became more competitive, more critical, and more disobed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30040" y="66600"/>
            <a:ext cx="5048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ing music to relieve stress</a:t>
            </a:r>
            <a:endParaRPr b="1" lang="en-US" sz="2800" spc="-1" strike="noStrike">
              <a:solidFill>
                <a:srgbClr val="000000"/>
              </a:solidFill>
              <a:latin typeface="Arial"/>
            </a:endParaRPr>
          </a:p>
        </p:txBody>
      </p:sp>
      <p:sp>
        <p:nvSpPr>
          <p:cNvPr id="13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rom the “November 14” chapter in </a:t>
            </a:r>
            <a:r>
              <a:rPr b="0" i="1" lang="en-US" sz="2400" spc="-1" strike="noStrike">
                <a:solidFill>
                  <a:srgbClr val="000000"/>
                </a:solidFill>
                <a:latin typeface="Arial"/>
              </a:rPr>
              <a:t>Black Like Me</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 Mississippi a black man had been lynched and the grand jury decided that the white men accused of the crime should not face tri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lack people felt betrayed by this blatant lack of justi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uthor travelled to Mississippi to experience life as a black man in such circumstanc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author arrived at the black part of the town of Hattiesbur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re was loud music everywhere, and he realized white people would think black people were happy, partying and “living jubilantl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e recognised the music was a way for people to relieve stress caused by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130480" y="66600"/>
            <a:ext cx="4851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ther ways to relieve stress</a:t>
            </a:r>
            <a:endParaRPr b="1" lang="en-US" sz="2800" spc="-1" strike="noStrike">
              <a:solidFill>
                <a:srgbClr val="000000"/>
              </a:solidFill>
              <a:latin typeface="Arial"/>
            </a:endParaRPr>
          </a:p>
        </p:txBody>
      </p:sp>
      <p:sp>
        <p:nvSpPr>
          <p:cNvPr id="13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ot everyone uses music and dancing to relieve stre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ome prefer to work out in a gym, play sports, comedy, ar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ome resort to alcohol, drugs or cr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ny rehabilitation programs increase their success rate by having attendees take up a pastime th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elieves stress, whi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ilding self esteem or providing a purpose to li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14560" y="66600"/>
            <a:ext cx="5068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lieving stress productively</a:t>
            </a:r>
            <a:endParaRPr b="1" lang="en-US" sz="2800" spc="-1" strike="noStrike">
              <a:solidFill>
                <a:srgbClr val="000000"/>
              </a:solidFill>
              <a:latin typeface="Arial"/>
            </a:endParaRPr>
          </a:p>
        </p:txBody>
      </p:sp>
      <p:sp>
        <p:nvSpPr>
          <p:cNvPr id="13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gage in a stress-relieving hobb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ailor your hobby so that it helps your community to fight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r people who like to writ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fictional stories that show oppressed people in a positive ligh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cument your community’s culture, history or role model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tribute to a community newspap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r people who like to play music:</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and play songs relevant to your oppressed communit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a musical stage show relevant to your communi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r artis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aint or sculpt images depicting community pride or op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0840" y="66600"/>
            <a:ext cx="6256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lieving stress productively (cont’)</a:t>
            </a:r>
            <a:endParaRPr b="1" lang="en-US" sz="2800" spc="-1" strike="noStrike">
              <a:solidFill>
                <a:srgbClr val="000000"/>
              </a:solidFill>
              <a:latin typeface="Arial"/>
            </a:endParaRPr>
          </a:p>
        </p:txBody>
      </p:sp>
      <p:sp>
        <p:nvSpPr>
          <p:cNvPr id="14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60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re exampl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ike spor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arn or teach self-defence sports</a:t>
            </a:r>
            <a:endParaRPr b="0" lang="en-US" sz="2000" spc="-1" strike="noStrike">
              <a:solidFill>
                <a:srgbClr val="000000"/>
              </a:solidFill>
              <a:latin typeface="Arial"/>
            </a:endParaRPr>
          </a:p>
          <a:p>
            <a:pPr lvl="3" marL="1208160" indent="0">
              <a:spcBef>
                <a:spcPts val="49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ike using a video camera:</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 a documentary about your community’s history or culture</a:t>
            </a:r>
            <a:endParaRPr b="0" lang="en-US" sz="2000" spc="-1" strike="noStrike">
              <a:solidFill>
                <a:srgbClr val="000000"/>
              </a:solidFill>
              <a:latin typeface="Arial"/>
            </a:endParaRPr>
          </a:p>
          <a:p>
            <a:pPr lvl="3" marL="1208160" indent="0">
              <a:spcBef>
                <a:spcPts val="49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ove to coo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rovide catering for activist grou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rite a cook book of recipes associated with your community</a:t>
            </a:r>
            <a:endParaRPr b="0" lang="en-US" sz="2000" spc="-1" strike="noStrike">
              <a:solidFill>
                <a:srgbClr val="000000"/>
              </a:solidFill>
              <a:latin typeface="Arial"/>
            </a:endParaRPr>
          </a:p>
          <a:p>
            <a:pPr lvl="3" marL="1208160" indent="0">
              <a:spcBef>
                <a:spcPts val="49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people who like gardening, knitting, collecting stam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ind </a:t>
            </a:r>
            <a:r>
              <a:rPr b="0" i="1" lang="en-US" sz="2000" spc="-1" strike="noStrike">
                <a:solidFill>
                  <a:srgbClr val="000000"/>
                </a:solidFill>
                <a:latin typeface="Arial"/>
              </a:rPr>
              <a:t>some way </a:t>
            </a:r>
            <a:r>
              <a:rPr b="0" lang="en-US" sz="2000" spc="-1" strike="noStrike">
                <a:solidFill>
                  <a:srgbClr val="000000"/>
                </a:solidFill>
                <a:latin typeface="Arial"/>
              </a:rPr>
              <a:t>for your hobby to help your co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412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ppression is rarely ended through a </a:t>
            </a:r>
            <a:r>
              <a:rPr b="0" i="1" lang="en-GB" sz="2400" spc="-1" strike="noStrike">
                <a:solidFill>
                  <a:srgbClr val="000000"/>
                </a:solidFill>
                <a:latin typeface="Arial"/>
              </a:rPr>
              <a:t>single</a:t>
            </a:r>
            <a:r>
              <a:rPr b="0" lang="en-GB" sz="2400" spc="-1" strike="noStrike">
                <a:solidFill>
                  <a:srgbClr val="000000"/>
                </a:solidFill>
                <a:latin typeface="Arial"/>
              </a:rPr>
              <a:t> tactic:</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uccess is more likely with a </a:t>
            </a:r>
            <a:r>
              <a:rPr b="0" i="1" lang="en-GB" sz="2000" spc="-1" strike="noStrike">
                <a:solidFill>
                  <a:srgbClr val="000000"/>
                </a:solidFill>
                <a:latin typeface="Arial"/>
              </a:rPr>
              <a:t>combination </a:t>
            </a:r>
            <a:r>
              <a:rPr b="0" lang="en-GB" sz="2000" spc="-1" strike="noStrike">
                <a:solidFill>
                  <a:srgbClr val="000000"/>
                </a:solidFill>
                <a:latin typeface="Arial"/>
              </a:rPr>
              <a:t>of tactic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tactics can form an equation for change</a:t>
            </a:r>
            <a:br>
              <a:rPr sz="2000"/>
            </a:br>
            <a:r>
              <a:rPr b="0" lang="en-GB" sz="2000" spc="-1" strike="noStrike">
                <a:solidFill>
                  <a:srgbClr val="000000"/>
                </a:solidFill>
                <a:latin typeface="Arial"/>
              </a:rPr>
              <a:t>(A + B + C = end of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call that </a:t>
            </a:r>
            <a:r>
              <a:rPr b="0" i="1" lang="en-GB" sz="2000" spc="-1" strike="noStrike">
                <a:solidFill>
                  <a:srgbClr val="000000"/>
                </a:solidFill>
                <a:latin typeface="Arial"/>
              </a:rPr>
              <a:t>Equations for Change </a:t>
            </a:r>
            <a:r>
              <a:rPr b="0" lang="en-GB" sz="2000" spc="-1" strike="noStrike">
                <a:solidFill>
                  <a:srgbClr val="000000"/>
                </a:solidFill>
                <a:latin typeface="Arial"/>
              </a:rPr>
              <a:t>was the subject of an earlier chap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chapter discusses several tactics that are often used by members of an oppressed group</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ny people underappreciate the importance of these tacti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ssibly because they view them in isolation instead of as being part of an equation for chang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gnoring some of these tactics means ignoring part of an equation for change, so it can hinder the fight to end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 if a tactic does not appeal to you personally, you should try to support others who use the tac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4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6.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68400" y="66600"/>
            <a:ext cx="1741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4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aken individually, the tactics discussed in this chapter are not impressive. For examp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community-specific newspaper won’t end oppression by itself</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ikewise for a conference or an anthology of personal accou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ecause they can appear unimpressive, many people underappreciate the importance of these tactic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tactics gain importance when viewed as parts of an equation for chang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 B + C = lessen oppression enough to enable D to occu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 + E + F = build enough pride and self-esteem to facilitate 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 + H = another step towards ending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Create a community newspap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48920" y="66600"/>
            <a:ext cx="6411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The need for community newspapers</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instream newspape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arely report news of interest to an oppressed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report news in a way that supports existing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me famous activists started newspapers or magazines for their own communiti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andhi</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or Indi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lcolm X</a:t>
            </a:r>
            <a:r>
              <a:rPr b="0" lang="en-GB" sz="2000" spc="-1" strike="noStrike">
                <a:solidFill>
                  <a:srgbClr val="000000"/>
                </a:solidFill>
                <a:latin typeface="Arial"/>
              </a:rPr>
              <a:t>	</a:t>
            </a:r>
            <a:r>
              <a:rPr b="0" lang="en-GB" sz="2000" spc="-1" strike="noStrike">
                <a:solidFill>
                  <a:srgbClr val="000000"/>
                </a:solidFill>
                <a:latin typeface="Arial"/>
              </a:rPr>
              <a:t>(for the Nation of Isla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ohn Holt</a:t>
            </a:r>
            <a:r>
              <a:rPr b="0" lang="en-GB" sz="2000" spc="-1" strike="noStrike">
                <a:solidFill>
                  <a:srgbClr val="000000"/>
                </a:solidFill>
                <a:latin typeface="Arial"/>
              </a:rPr>
              <a:t>	</a:t>
            </a:r>
            <a:r>
              <a:rPr b="0" lang="en-GB" sz="2000" spc="-1" strike="noStrike">
                <a:solidFill>
                  <a:srgbClr val="000000"/>
                </a:solidFill>
                <a:latin typeface="Arial"/>
              </a:rPr>
              <a:t>(for home-based educ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71080" y="66600"/>
            <a:ext cx="67676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Difficulties for a community newspaper</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roblems faced by many community-specific newspaper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are smaller than mainstream newspapers</a:t>
            </a:r>
            <a:br>
              <a:rPr sz="2000"/>
            </a:br>
            <a:r>
              <a:rPr b="0" lang="en-GB" sz="2000" spc="-1" strike="noStrike">
                <a:solidFill>
                  <a:srgbClr val="000000"/>
                </a:solidFill>
                <a:latin typeface="Arial"/>
              </a:rPr>
              <a:t>(so they seem unimpressive by comparis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ticles about community events are less dramatic than articles about national or international issues</a:t>
            </a:r>
            <a:br>
              <a:rPr sz="2000"/>
            </a:br>
            <a:r>
              <a:rPr b="0" lang="en-GB" sz="2000" spc="-1" strike="noStrike">
                <a:solidFill>
                  <a:srgbClr val="000000"/>
                </a:solidFill>
                <a:latin typeface="Arial"/>
              </a:rPr>
              <a:t>(so a community newspaper is often thought of as boring)</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act as a concentrated source of information about oppression faced by the community</a:t>
            </a:r>
            <a:br>
              <a:rPr sz="2000"/>
            </a:br>
            <a:r>
              <a:rPr b="0" lang="en-GB" sz="2000" spc="-1" strike="noStrike">
                <a:solidFill>
                  <a:srgbClr val="000000"/>
                </a:solidFill>
                <a:latin typeface="Arial"/>
              </a:rPr>
              <a:t>(the bearer of bad news is often dislik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small readership means funds for running the newspaper are scar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problems can create a vicious circ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newspapers for oppressed communities struggle to surv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32080" y="66600"/>
            <a:ext cx="6215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enefits of a community newspaper</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community-specific newspaper offers important servic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can report oppressive events ignored by mainstream newspap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can report and analyse prejudice in mainstream media</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an help combat internalised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can announce community events and advertise community busines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t may be used as a source of information for mainstream newspap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are important servic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many people perceive the difficulties more strongly than the benefi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don’t want to buy an “unimpressive, boring and depressing” pap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ecause of this, community-specific newspapers are underappreciat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Social groups and con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05160" y="66600"/>
            <a:ext cx="2473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ocial groups</a:t>
            </a:r>
            <a:endParaRPr b="1" lang="en-US" sz="2800" spc="-1" strike="noStrike">
              <a:solidFill>
                <a:srgbClr val="000000"/>
              </a:solidFill>
              <a:latin typeface="Arial"/>
            </a:endParaRPr>
          </a:p>
        </p:txBody>
      </p:sp>
      <p:sp>
        <p:nvSpPr>
          <p:cNvPr id="10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cial groups for “X” people provide a safe environment for them to meet and be themselv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they are highly valued by people suffering from internalised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Underappreciation of a social group can occur as follow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person, Fred, regularly goes to a social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tending the group helps to reduce Fred’s internalised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Fred recovers, he needs the group’s support less and le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when Fred has recovered enough, he leaves the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red may misunderstand the reason he is leaving:</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does not realize that </a:t>
            </a:r>
            <a:r>
              <a:rPr b="0" i="1" lang="en-GB" sz="2000" spc="-1" strike="noStrike">
                <a:solidFill>
                  <a:srgbClr val="000000"/>
                </a:solidFill>
                <a:latin typeface="Arial"/>
              </a:rPr>
              <a:t>he </a:t>
            </a:r>
            <a:r>
              <a:rPr b="0" lang="en-GB" sz="2000" spc="-1" strike="noStrike">
                <a:solidFill>
                  <a:srgbClr val="000000"/>
                </a:solidFill>
                <a:latin typeface="Arial"/>
              </a:rPr>
              <a:t>has changed and outgrown the group</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he thinks “the group changed and became bor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isunderstanding might make Fred reluctant to recommend the group to 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10:52:47Z</dcterms:modified>
  <cp:revision>1163</cp:revision>
  <dc:subject/>
  <dc:title>Community Newspapers</dc:title>
</cp:coreProperties>
</file>