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y Tac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990CCED-820A-4A06-B586-CE49DA7096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A44EC34-32B7-4C26-A9A2-1C3E7C9E46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isky Tac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Using feelings of superiority to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at feelings of infe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960" y="66600"/>
            <a:ext cx="5640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radicating a sense of inferi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use numbers to indicate levels of self-e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w self-esteem (“I am inferio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ealthy level of self-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verly high self-esteem (“I am superio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ression can cause oppressed people to have low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f-esteem, let’s say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a good way to get their self esteem back up to z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way is to reclaim history, culture and role models to say “We are just as good as other peo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ly, your self esteem will rise back to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oppression might keep dragging your self-esteem back below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96840" y="66600"/>
            <a:ext cx="350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 alterna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lternative tactic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laim history, culture and role models to s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We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other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im is to bring self-esteem to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, for example, 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cancel out the negative self-esteem created by oppression to leave your overall self-esteem at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actic may seem appealing, but it can be danger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will overcompensate and end up with a self-esteem of, for example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e tactic works perfectly, external supporters might be alienated if they hear the “we are better than other people”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Demonising your oppr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0040" y="66600"/>
            <a:ext cx="7578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temptation to demonise your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are oppress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ost 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X people (who are not oppressors) do nothing to stop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people are upset and frust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non-oppressors who do nothing to stop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empting for an X-rights activist to demonise non-X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taps into the frustrations and anger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an effective way to build up support among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8200" y="66600"/>
            <a:ext cx="7280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anger of demonising your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ising non-X people is likely to scare non-X peopl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white, how would you feel hearing the Nation of Islam’s claim that white people are dev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well off, how would you feel about lots of poorer people shouting “Capitalist bastard” at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ly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pressors will feel more justified in their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non-oppressors may, as a form of self-defence, become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on-X people outnumber X people then riots or attempts at an “non-X versus X war” will probably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90360" y="66600"/>
            <a:ext cx="350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 alterna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tactics can be more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this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ise an op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ief rec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spread news coverage of extremist oppressors hurting peaceful protestors wins sympathy of the non-oppressors (the apathetic maj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-longer-apathetic majority will then put peer pressure on the oppressive extremists to end the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has briefly discussed some dangerous tacti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models are important but resist the urge to put them on pede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“we are superior to our oppressors” as a tactic to combat feelings of infe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demonise your oppr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tactics for fighting oppression are equally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ome tactics that are used sometimes but ar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utting role models on pedes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1440" y="66600"/>
            <a:ext cx="5718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ting role models on pedes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for an oppressed group to have positive role models to counteract negative stere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there is a dan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le models tend to be placed on pedestals and idol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olised role models tend to be hated if fans discover their feet of c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edestal is as much a prison as any small, confined place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ria Stein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“feet of clay” does not even have to be a character f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any way in which the role model does not meet the unrealistic and confining expectation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98680" y="66600"/>
            <a:ext cx="4292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Tom Robin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 Robinson was a popular and openly gay singer in the late 1970s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r on, much to his surprise, he fell in love with a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gay people felt betrayed by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 Robinson answered his critics in a s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1 years now I've fought for the righ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people to love just whoever they lik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 right-on and righteous are out for my bloo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I live with my kid and a woman I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if gay liberation means freedom for al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abel is no liberation at al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'm here and I'm queer and I do what I d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I'm not gonna wear… a straitjacket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56000" y="66600"/>
            <a:ext cx="397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Ani diFran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nger Ani diFranco was frustrated at being put on a feminist ped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responded to her critics in a s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talk about my ima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I come in two dimens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lipstick is a sign of my declining m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what I happen to be wear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ay that someone takes a pic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my new statement for all of womank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sh they could see us now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leather bras and rubber shor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some ridiculous new team unifor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 ridiculous new spor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ick someone call the girl pol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file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2040" y="66600"/>
            <a:ext cx="597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: Bob Geldof and Gand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organising Band Aid to raise money for famine rel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K media gave Bob Geldof the nickname “Saint Bo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to his disgust, some people wanted to touch him because they thought he was h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 wrote about this in his autob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alled it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d syndr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quoted a fictional character from a short story at the start of hi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mind being reverenced, greeted and honoured,’ said Vespaluus, ‘I don’t even mind being sainted in moderation, as long as I’m not expected to be saintly as well.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tory of St. Vespalu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by Sa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was horrified whenever people treated him as a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27360" y="66600"/>
            <a:ext cx="1820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mo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proud of people who make great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resist putting them on a pedes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finement frustrate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you will feel hurt when they do not live up to your unrealistic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52:04Z</dcterms:modified>
  <cp:revision>1164</cp:revision>
  <dc:subject/>
  <dc:title>Obsession</dc:title>
</cp:coreProperties>
</file>