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1C07D80-2EE0-462C-A3CF-3C05F810E9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CB7A107-53CF-4DC0-A48F-7D38C95077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7200" y="66600"/>
            <a:ext cx="4037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nation of begru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rish people say Ireland is “a nation of begrudg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begrudge = to envy or resent the good fortune of somebody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countries also have a begrudgery stereotype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quote from the bible suggests begrudgery is not restricted to moder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phet is not without honour, except in his own country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rk 6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begrudgery is a symptom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are inferior and don’t deserve success. Therefore, that X person should stop being successful and get back into his or her pla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Recipe for creat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152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gredien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gredient of internalized oppression is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insul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group.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ogatory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avery or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ws that discriminate again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, another, less obvious ingredient is also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the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cluding the group’s history, culture, and role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through censorship of the school curriculum and reported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5084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USA were taught they were inf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slavery, segregation laws and socially-condoned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ese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equently repeated (extreme) insul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ck of positive imag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achieved through censo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y in school focussed on white Americans and white Europ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of African history despite its impressive ancient achievements in metalworking, science, mathematics, architecture, philosophy, art and emp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 (“The Seat of the Troubl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hought of the inferiority of the Negro is drilled into him in almost every class he enters and in almost every book he stud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4784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mentions the lack of information about black people in American history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 (“Masco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me to the textbook section on Negro history. It was exactly one paragraph long. [The teacher] laughed through it practically in a single breath, reading aloud how the Negroes had been slaves and then were freed, and how they were usually lazy and dumb and shiftles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ensored, anti-black history was taught to all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ugh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hate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ping such bigoted teaching “is much more important than the anti-lynching movement, because there would be no lynching if it did not start in the schoolroo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8280" y="66600"/>
            <a:ext cx="54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from Nelson Mande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otes are from Nelson Mandela’s autobiograph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not yet know that the real history of our country was not to be found in standard British textbooks, which claimed South Africa began […] in 1652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ere tau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eliev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the best ideas were English ideas, the best government was English government, and the best men were English m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subsequently passed a law that made it an offence punishable by fine or imprisonment to offer unauthorized educ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43040" y="66600"/>
            <a:ext cx="581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historical censo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orship of black history is no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ountries, history taught in school censors or disparages the role of minoritie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aces or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(a 51% min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heterosex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history education you received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you taught about historical figures of minority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cipe for stopping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3720" y="66600"/>
            <a:ext cx="7558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pe for stopping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for stopping internalized oppression is the opposite of the recipe for creating internalized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ipe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he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promote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ingredient is the most obv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econd ingredient is equally important and is often underappre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suggest some categories of positiv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5160" y="66600"/>
            <a:ext cx="48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r Woodson (author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Negro History Week (now known as Black History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as inspired other oppressed groups to do lik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re is a Gay History Week/Month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know of other “X” History wee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models and heroes for X people are importa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 (“Mascot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e Louis knocked out James J. Braddock to become the heavyweight champion of the world. And all the Negroes in Lansing, like Negroes everywhere, went wildly happy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reatest celebration of race pride our generation had ever know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you think of comparable people or events for other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s, movies and TV shows featuring X characters portrayed in a posi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1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phies of X people who achieved great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s and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challenged anti-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lead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businesses run by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X commun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s of X culture that can be exported into mainstream cultur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, art,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e Lee popularised Chinese martial arts in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 stories about X peopl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lex Haley (book and two TV mini-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echama Tec (book and 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5680" y="66600"/>
            <a:ext cx="60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images of X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anti-X insults is often outside the control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within the power of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bring to l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i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quantity of positive images of X people gr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ed oppression will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anti-X insults from non-X people will also decre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beit at a slower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chools for oppress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9440" y="66600"/>
            <a:ext cx="528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ppressed groups create their own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black people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 can be controversial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white-only and black-only schools during segregation in America and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schools are integrated, why would black people want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-integrate the schools again? Isn’t that just segreg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22280" y="66600"/>
            <a:ext cx="6470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for oppressed group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important reason for such sch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segregation, a racist curriculum was taught in black-only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segregation ended, integrated schools still have a racist bias in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history textbooks are still white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run by black people can create a black-inclusiv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internalized racism can be eradicated mor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for black schools will disappe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ism finally disappears from integrate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ized oppression causes X peop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themselves (a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 X people (as a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ymptoms of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people do not support X businesses, and so ensure continued poverty of the X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fighting over the limited X resources instead of cooperating to increase the quantity of X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begrud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e for internalized oppression has two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anti-X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or positive image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by creating &amp; promoting positive images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is insulted frequ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gly/stupid/untrustworthy/incompetent/sick/perverted/evil/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h verbal abuse might come from parents, a partner, a bully at school or wor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Fred might start to believe the in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Fred might develop som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confidence and low self-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tire gro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nsulted frequ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is ofte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nalized oppress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internalized racism, internalized classism, internalized sexism, internalized homophob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Symptoms of internalized o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0840" y="66600"/>
            <a:ext cx="6469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mptom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long to an oppressed group,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lots of negative stereotypes about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upid, dirty, incompetent, criminal, immora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you repeatedly hear the negative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m about yoursel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ppressed groups often have high rates of mental health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come to believe the stereotypes abo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people in gene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next few slides provide examples of problems this cre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11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Chapter 15 (“Vocational Guidance”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is-education of the Neg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arter Woodson, 1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-owned chain store was asked to put a black manager in charge of on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urvey was carried out to find how black people felt about this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hundred thirty-seven Negro families in that neighbourhood seriously objected to buying from Negroes and using articles handled by th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uthor explains this was due to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had internalized racist stereotypes, inclu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“dir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wants to buy from a shop staffed with “di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520" y="66600"/>
            <a:ext cx="75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conomic effects of internalized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ant to have (more)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ey settle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pea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aving mor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buy items that give the impression they are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houses, bigger cars, bigger TVs, designer cloth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eople buy such things on credit, thus making them po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f X people think “X is inferior to non-X”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eat and buy items associated with non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prefer to shop at non-X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owned businesses suffer (thus keeping the X community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related culture struggles to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8280" y="66600"/>
            <a:ext cx="6569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ized oppression is widesp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ng terms for people suffering from internalized ra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eo (a black cookie with a white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conut (brown on the outside, white on the in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ty bar (a chocolate bar with a coconut f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slang terms illustrate that internalized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mmon aroun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ose slang terms are used in England, South Africa and the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serious enough to warrant a label that means “traitor to your own ra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ppressed group has a limited amount of “safe”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s of worship, community centres, pubs/discos, cafes, restau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ized oppression may make members of the group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competent, therefore w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cre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ferior, therefore we do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er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cause in-fighting within the oppressed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ompete to control the existing limi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better if they cooperated to create ne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6:17Z</dcterms:modified>
  <cp:revision>1161</cp:revision>
  <dc:subject/>
  <dc:title>Tactics of Oppression</dc:title>
</cp:coreProperties>
</file>