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FE0F650-6C8A-4AA7-81F0-9E92A8D0D8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BB737FB-1A36-4825-BD67-98B751DBF5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s segregation fin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6800" y="66600"/>
            <a:ext cx="631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decreas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19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56 Montgomery Bus Boycott ended segregation on public buses in the city of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public buses continued elsewhere in south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960 Freedom Rides challenged segregation on inter-state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campaigns had to be launched to tack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forms of segregation within the same city 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form of segregation in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o single moment in time when segregation suddenly stop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gregation was reduced piece by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after segregation laws were repealed, de facto segregation continued in some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1840" y="66600"/>
            <a:ext cx="5576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is not all or n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segregation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all or nothing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ry does not have to be either completely segregated or completely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segregation is usually a matter of deg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countries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n’t one law that segregates all aspects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r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laws that, between them, segregat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bunch of laws that segregate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more laws that segregate restaurants, restrooms, educati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ly, such laws are created (or repealed) on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 amount of segregation increases or decreas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dern segregation-lik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3760" y="66600"/>
            <a:ext cx="146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et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an island near Venice where Jew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ve in the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dictionary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of a city, especially a slum area, inhabited predominantly by members of a minority group, often as a result of social or economic restrictions, pressures or hard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cities, ghett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orm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may not require “X” people to live in an ghetto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ly paid jobs and high unemployment levels (due to discrimination) cause X people to live in cheap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eps most X people segregated from mos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7880" y="66600"/>
            <a:ext cx="540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regation of disabl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lack of disabled access to buildings keeps disabled people segregated from non-disable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yrics of one song are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am What I 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rk Dignam, on his 1984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etry and Songs from the Whe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“special” is sometimes used to refer to people with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offered alternative routes of tra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given special things to d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ild, sent to speci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134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iscrimination and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financially affects a discriminated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serves another purpose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iscrimination helps to maintain se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eeps the apathetic majority ignorant about the reality of 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work colleagues who are “different” then your only source of information about such people may be the (biased)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“different” people out of teaching positions maintains the ignorance of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this can be seen in the UK’s “Section 28”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cussed on th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320" y="66600"/>
            <a:ext cx="686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, England and Wales introduced a law that contained the following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 authority shall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ally promote homosexuality or publish material with the intention of promoting homosex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the teaching in any maintained school of the acceptability of homosexuality as a pretended family relationshi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3, this law was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“promoting” homosexuality was ambigu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t mean “to encourage straight people to become gay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thing that most gay people think 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id it mean “to promote the idea that homosexuality is acceptable”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was a widely accepted interpre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66600"/>
            <a:ext cx="805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28 of the Local Government Ac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there is not much difference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bid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motion of “X is acceptable”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X is unaccep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ould say this encourages anti-X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prisingly, this was a major concern with Section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 widely understood concern was that Section 28 helped to maintain se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elped to maintain the ignorance of (future generations of)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regation is not an “all or nothing”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matter of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segregation in a society increases or decreases as individual laws are created or rep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nti-X practice or law might not seem like a big cause for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slow accumulation (or repealing) of such practices or laws over time changes the natur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egregation. In parti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al segregation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ystems of segregation have ended. However, it is useful to study th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actics from those systems are used in other (lesser) forms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it is easier to learn from extreme examples than from milder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Historical look at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1280" y="66600"/>
            <a:ext cx="484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separate but equal” l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regationists often claimed that two races could live “separate but equal”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ourse, the “equal” part of “separate but equal” was a 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two set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ies was prohibitively expens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oilets, libraries, schools, drinking water fountains, restaurants, hote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ide from the financial expense, there was also the waste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ither the government nor businesses could aff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inferior, and theref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-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facilities were provided for black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is, the “separate but equal” l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unded plausi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naïve whi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66600"/>
            <a:ext cx="809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segregation was important for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rior facilities ensured oppressed people remained poorly educated and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could continue to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reduced slack in the lives of oppressed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l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earlier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slack, it is difficult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obvious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this training course that most non-oppressed citizens form the “apathetic maj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ing this majority ignorant of the true horror of oppression ensured they remained a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athy arising from ignorance enabled the oppression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1280" y="66600"/>
            <a:ext cx="660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severe punishments for white people who tried to end their own (or others’) igno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Chapter 28 of Nelson Mandela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Winnie, spent 2 weeks in prison after taking part in a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n prison, Winnie befriended 2 white prison w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r release, these new friends visited her in the black tow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ost their jobs becaus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ald Woods, was a  journalis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befriending Steven Biko he started to write unbiased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“banned” him (from writing or being in a room with more than one other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or details, see his autobiography 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y Free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66600"/>
            <a:ext cx="779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nishments for violating segreg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 provides some 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, John Howard Griffin, received death threats after publishing his accounts of living as a black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4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vember 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s discussed P. D. East, a journalist who satirised segregatio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newspaper lost all its local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amily was shunned by almost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nishments for violating segregation laws were more severe for black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who started their own businesses (thus demonstrating their ability for more than menial work) risked having their homes or businesses burned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700 people in America (most black) were lynched between 188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68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 average of slightly more than one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66600"/>
            <a:ext cx="48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gregation aided geno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orld War 2, the Nazis put Jews into ghet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Wikipedia article 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hettos in Nazi-occupied Euro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ecurity guards to prevent Jews leaving the ghetto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to prevent non-Jewish people from en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helped to enforce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hettos were holding areas, until Jews could be transported to concentration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zi concentration camps had a “Work sets you free” sign at their ent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illagers thought they were work camps rather than death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33:00Z</dcterms:modified>
  <cp:revision>1159</cp:revision>
  <dc:subject/>
  <dc:title>Tactics of Oppression</dc:title>
</cp:coreProperties>
</file>