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ctical Aspec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0630659-1EAD-4414-8DB1-0BBAEFD046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E938E10-93F5-423E-BBBC-079B6EC8A1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cal Aspect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0320" y="66600"/>
            <a:ext cx="712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win was well publicised so it set a precedent for nation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480" y="66600"/>
            <a:ext cx="6927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ident said that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is not a one-day protest. It can last fo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al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communication (for peer pres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disciplin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make it an economic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ccessfu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aign can ha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447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nesty International (www.amnesty.org) uses Satyagraha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mpaigns only for people who have not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national letter-writing campaign is used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writers instructed to be polite and respec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s can last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 analyse the tactics of other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ose tactics compatible with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those organizations be more effective if they embraced Satyagra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main principle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ores some practical aspect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0000" y="66600"/>
            <a:ext cx="678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period for a Satyagraha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atyagraha campaigns run for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nderstand why, imagine Fred is a member of the apathetic maj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sees “Police use violence against peaceful protesters” 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e thinks “That’s not right. But there’s nothing I can 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sees the similar headlin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eated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many weeks then he grows un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t this point that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ar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headlines continue, he slowly increases th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biographies of Gandhi or Martin Luther King Jr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ampaigns usually las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’s Montgomery bus boycott lasted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7040" y="66600"/>
            <a:ext cx="265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red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kills are vitally important for a Satyagraha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skills (typically media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his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for the peaceful protes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ensure no violence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 protestors about the Bell Curve of Intolerance model so they underst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raining from violence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protestors sing peaceful songs (such as hymns) to dissipate their 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stor (or any person who could be mistaken for one) uses violence then immediately stop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Gandhi and King applied this tactic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 the media will report the 1%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2600" y="66600"/>
            <a:ext cx="568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run a Satyagraha campaign against anti-X oppression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campaign again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of the oppression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qual pay for X and non-X employees in a specific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y, such as buses, restaurants or toi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a particular service to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his focussed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it easier for the apathetic majority to understand the issue and sympathise enough to apply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for one issue makes it easier to achieve success for other issue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opponents will think “They caused disruption for 6 months for that first issue. We don’t want to go though that trouble ag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480" y="66600"/>
            <a:ext cx="686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 of oppress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necdote is from: Chapter 16 (“The Albany Movement”)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rights protestors in Albany ran simultaneous campaigns again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 in public places (libraries and p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s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ion 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ial of free speech 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stake I made there was to protest against segregation generally rather than against a single and distinct facet of it. Our protest was so vague that we got nothing, and the people were left very depressed and in despai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920" y="66600"/>
            <a:ext cx="848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rget economic power instead of political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atyagraha campaign can be more effective if it is aimed 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conomic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oppressors rather th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itical pow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of targeting political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ressed X people may not have enough votes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do, elections occur only once every, say,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targeting econo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oppressed X people are customers of thei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ycotting an oppressor’s busin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ick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fects its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economic problems quickly get the attention of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’s analysis of the Albany mov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ttacked the political power structure instead of the economic power structure. You don’t win against a political power structure where you don’t have the vot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332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nationally, act lo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iz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campaign can generat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co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a local win can affect nation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ere two examples of this in earlier chap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examples are repeated on the following slides for ease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0:28:47Z</dcterms:modified>
  <cp:revision>1278</cp:revision>
  <dc:subject/>
  <dc:title>Practical Aspects of Satyagraha</dc:title>
</cp:coreProperties>
</file>