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53625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-curve Model’s Insight into Crowd Psych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A8E046A-891A-4876-BBBA-3ED5A1AB23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CA35B04-EF07-4977-B034-1F271397D8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-curve Model’s Insight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o Crowd Psych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108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owd psych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owd acts differently to the individuals i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gry mob might kill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the mob do not intend for that to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y just want to shout their disapproval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is typically viewed as being mysteri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several competing psychological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e seem entirely convincing or understandable to a la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Convergence the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: people who wish to act in a certain way come together to form cro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st individuals in a mob do not intend to do h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2640" y="66600"/>
            <a:ext cx="749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 in a crowd are a skewed representation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4647960" cy="34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660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offered by the bell curve mode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crowd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ngry mob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anti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neutral or pro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sun, sand and sex” holiday resort attr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“let’s party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few, if any, religious people or families with young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ype of skew can result in unusual behavio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0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an angry mob might kill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kewed population sample in a mob results in a domino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body opposes the shouting of anti-X slo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nti-X slogans are sh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want to commit violence take the shouting as encouragement to beat up some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people who want to kill take the beatings as encouragement to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in a “sun, sand and sex” re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body to re-enforce self-restraint or inhib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behave during a holiday unlike they would at ho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ere there is a more balanced sample of th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2600" y="66600"/>
            <a:ext cx="384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organize a m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ware that the marchers are a skewed representation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unusual behaviour might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rch of angry protestors might turn into an angry mob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reduce the chances of this occur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 fun theme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umes, funny placards, funny 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 introduce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 hy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 psychology can be explained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owds contain a skewed sample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n angry mob or people on a “sun, sand and sex”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tally, the crowd is missing people who say “Don’t do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with behaviour that is unusual in a “normal popu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“Don’t do that” comments encourages more unusual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encourages more extrem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steps to ensure that a protest march does not turn into an angry mob, which then turns into a r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fun or religion into the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06:36Z</dcterms:modified>
  <cp:revision>1275</cp:revision>
  <dc:subject/>
  <dc:title>Bell-curve Model’s Insight into Crowd Psychology</dc:title>
</cp:coreProperties>
</file>