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1E5F740-37F3-44F9-97CA-133EDEBE89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43D25C3-0B09-448B-AEF0-1F089D5B60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ll Curve Insight into Satyagra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6040" y="66600"/>
            <a:ext cx="423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any documented examples of Satyagraha-based campaign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of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slides provide two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example is from 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8 (“Colour Bar”) in Part II of Gandhi’s autob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ond example is from Martin Luther King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26 (“Selma”)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016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Gandhi tackled job discri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law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applied for a license to work in the South African Suprem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non-white person had such a lic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barristers invented silly reasons to deny him hi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was enraged by this, “but I restrained my feel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’s autobiography does not mention him communicating the issue to newspapers. But he must have done so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newspapers condemned the opposition and accused the Law Society of jealous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peer pressure was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Gandhi obtained his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this example shows that Satyagraha can work even if your opponent uses bureaucracy instead of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5320" y="66600"/>
            <a:ext cx="732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King secured black voting r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states in the US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racist bureaucracy made it almost impossible for black people to register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asked the US president to introduce a bill to tack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said public and political opinion would defeat such a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g organized Satyagraha-based protests in S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ma had racist bureaucracy to hinder black voter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lanned, peaceful protestors were met with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wide media reported the pro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the apathetic majority applied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was able to introduce a bill for black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elapsed time: 5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is usually explained in religious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like “love is more powerful than h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“penance and suffering are good for the sou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model offers a better explanation for the success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on-religious explanation is easi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has only scratched the surface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yagraha has many subtleties you need to understand before you can use it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the “Satyagraha” chapter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Satyagrah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5520" y="66600"/>
            <a:ext cx="4097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 and Satyagra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ndas Karamchand Gandhi (186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194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ignificant people of the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cording to Time magaz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the most successful activists of 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famous activists were inspired by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Martin Luther King and 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used peaceful tactics to fight violent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like the term “passive res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ined the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gra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meaning truth-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Sanskrit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ty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ruth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rah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irmnes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7720" y="66600"/>
            <a:ext cx="528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tline of Satyagraha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line of Satyagraha 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peaceful demonstrations and refuse to obey unjust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resist arrest. Do not defend yourself against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try to destroy, hurt or humiliate your oppress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stead, leave the door open to friend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pressors typically respond to this strategy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 imprisonment of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atings and even murder of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prisingly, Satyagraha (eventually)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many successes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used it to end Engl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explanation for Satyagraha’s su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560" y="66600"/>
            <a:ext cx="797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’s explanation of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escribed Satyagraha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ndication of truth not by infliction of suffering on the opponent but on one’s self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11 (“Gandhi Goes to Jail”) of Part One in “The Life of Mahatma Gandhi” by Louis Fi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longer descriptions of Satyagraha but they all are based on religious idea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can conquer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uffering, penance and self-restraint are good for the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yagraha worked, but it does not seem 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of intolerance offers another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easier to understand, regardless of your 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n understand Satyagraha then you can use it in your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nsight provided by the bell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440" y="66600"/>
            <a:ext cx="8988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ell curve explanation for Satyagraha’s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do a peaceful prote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igned to provo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extremists react, usually with violence and mass ar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and pro-X activis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end themselves or resist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ymmetrical conflic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dely 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athetic 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sympathetic and take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like X people much but they don’t deser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er press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anti-X extremists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, apathetic community also becomes 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put political peer pressure on the government to stop anti-X extrem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arison of explan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did not discuss mass communication (to generate peer pressure) as being a part of Satyag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he thought this was obvious &amp; therefore not worth men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as so focused on spiritual issues that he discarded non-spiritual aspects of Satyag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Shepard (author of “Mahatma Gandhi and His Myths”) believes Gandhi did not realize the importance of ma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communication is import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s the apathetic majority to see the horrifying truth of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nti-X extremists believe they are carrying out the will of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majority express horror at the actions of the anti-X extrem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’ pride turns to sh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tremists no longer feel safe from prosecution by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0Z</dcterms:modified>
  <cp:revision>1305</cp:revision>
  <dc:subject/>
  <dc:title>Bell Curve Insight into Satyagraha</dc:title>
</cp:coreProperties>
</file>