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01A1F2F-7ADC-4C5D-A54A-D9D60AB758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31F41BB-0322-485E-AB6A-3E4F8BE8CE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urse of the “Genius” Lab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240" y="66600"/>
            <a:ext cx="624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with being called a 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may develop unrealistic expectations of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ink “You’re a genius so you can do any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ually impossible to live up to their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n people become disappointed i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e of these disappointed people is your manager then bonuses, pay rises and promotions may occur less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something developed by a genius must b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d have to be a genius to understand th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y won’t bother trying to understand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it difficult for you to promote the results of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mean “You are a genius” is more of a curse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9040" y="66600"/>
            <a:ext cx="655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realistic expectations of a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ing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n’t Easy Being a Geniu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Jim Collins, New York Time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Sept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nytimes.com/2005/09/19/opinion/19collins.html?_r=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ef summ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hor was called a genius by the US national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people developed unrealistic expectations of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, friends and strangers asked h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vestment advice, questions on unusual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listen to theories they h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iends were frustrated he wasn’t better at playing Trivial Pur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young daughter was disappointed when he was no good at playing a children’s car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agues assumed his research papers were all accepted fo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Advice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ish “genius” from your vocabulary because of ambigu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it mean a high IQ or natural 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es it mean inspiration plus hard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, explicitly say what you mean.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very intellig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a good bit of in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impressed with how hard you worked on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 the label “genius” as a curse rather than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ject and fight this c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ght it through education (such as this pres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our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d to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, but I’m retired now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’t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enius: I work only part-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ay I’m a genius? Thank you, and yes, I do work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jokes are likely to receive a puzzled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ives you an opportunity to educate people that “genius” refers to “hard work” rather than an innat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widely misunderst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insic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y you are bor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reach a state of genius (superior ability) through lots of practice and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isunderstanding can cause problems. Peopl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miss your claims of having worked hard because “you are a geni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unrealistic expectations of you that you cannot live 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your work because “only another genius could understand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 the label “genius”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 effects are like a curse that can hinder your career o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What is geni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4800" y="66600"/>
            <a:ext cx="7180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misunderstanding of “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can be used to mean a superior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enius”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he has a very high intellig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was a genius on the basketball cou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thing wrong with the above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“genius” is often used to mean a superior ability that com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not born Superman, you will never be bullet proof, be able to fly or have X-ray vision, regardless of how much you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56120" y="66600"/>
            <a:ext cx="276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omas Ed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Edison was a famous American inven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inventions include the light bulb and the phon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widely regarded as a gen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ous quote from Thomas Ed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points to note about thi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ion anything about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orn 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ior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% and 99% figures are inaccurate 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be 1 unit of inspiration and 10,000+ units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assume he was being modest. Perhaps he was making an in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called a ‘genius’ because I work hard. You are no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ed that because you are laz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73360" y="66600"/>
            <a:ext cx="374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omas Edison’s quote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it valid only for him? Or does it hold for many other geniuses to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“genius” is often applied to the best people in a field, such as sports, music, art, movies, busines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re such people born already being “the best”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did they have to work very hard to become th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swer (at least f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uses) is: they worked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verify this by reading biographies of “the best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Carol S. Dweck comes to the same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young prodigies usually work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5480" y="66600"/>
            <a:ext cx="492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“genius” of star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a sports gen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Jordan is regarded as the best basketball player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several basketball teams rejected him because he was not (yet) goo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skill was “mediocre” initially. Hard work made it “good”, “better”, “great” and eventually “geniu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d to continue working har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the “genius”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it seems Thomas Edison was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us = a small bit of inspiration plu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ips on finding inspiration, s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atus Quo is Flaw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Not?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Barry Nalebuff and Ian Ay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Why the “genius” label can be a c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08440" y="66600"/>
            <a:ext cx="3324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geniu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a genius” is normally intended as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somebody calls you a genius they probably 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born with a superior talent or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have to work hard to achieve excell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ssumptions of you are likely to be incorr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e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n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o work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correct assumptions can cause you probl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43:17Z</dcterms:modified>
  <cp:revision>1280</cp:revision>
  <dc:subject/>
  <dc:title>Curse of the “Genius” Label</dc:title>
</cp:coreProperties>
</file>