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Import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n-c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7FB3406C-89DC-4FD9-A197-496F6D322D1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4ABF3C66-B335-4520-8E16-43D39652FB6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Importance of Non-core Skil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jobs have an obvious “core” sk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 of such jobs: doctor, nurse, teacher, programmer, football player, musician, art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think: “I can have a successful career if my core skill is better than most other peop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u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ing an excellent core skill may be necessary but it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need to have “good enough” non-core skills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lains why having poor non-core skills can hold back your career or activist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ggests ways to improve your non-core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51120" y="66600"/>
            <a:ext cx="5400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Fred the programm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d is a skilled programmer &amp; works at a softwa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d would love to spend all his working time doing programming. Howe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pend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ess than half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his time pro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f his time is spent doing other task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project planning, high-level design, writing progress reports, team meetings, meetings with people in other departments (sales, marketing, documentation), mentoring new colleagues, email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Fred has poor skills for those non-programming tasks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has poor skills for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ajorit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his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lack of skills is likely to hold back his car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44160" y="66600"/>
            <a:ext cx="6588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Fred the programmer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d has 3 choices (2 of which are bad 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ic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ill become even more skilled at programming; this will compensate for my poor non-core skil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: Fred remains with poor skills for the majority of his job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not good for his car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ic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I behave rudely then maybe I won’t be invited to meetings or asked to mentor new employe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: Cultivating a bad personality is unlikely to help his car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ice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ill improve my non-core skills so they are ‘good enough’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: Fred’s career impro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8840" y="66600"/>
            <a:ext cx="3897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 from a mov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ovi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nd The Band Played 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ovides an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ovie is about scientists in the 1980s who investigated a new disease (AIDS) as it spread through America and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in character in the move is Dr. Don Franci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layed by Matthew Mod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. Don Franc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s excellent medical research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he has poor communication skill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he is sometimes tactless when communicating with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several occasions, things he says annoy people and they react by making his work ha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15520" y="66600"/>
            <a:ext cx="6270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to improve your non-core ski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improve non-core skills through formal education or training. Howe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can be 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work schedule might clash with the education time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ther way is through self-stu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 books on various topics, such as, management, leadership, project planning, sales, marketing, how to organize meetings, customer service, public speaking, writing skill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k your manager or colleagues to recommend such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“self-help” books provide useful advice, for example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ow to Win Friends and Influence Peopl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Dale Carne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serve the techniques used by colleagues who have better non-core skills than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0200" y="66600"/>
            <a:ext cx="7049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levance of business skills for activi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activ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me many of the world’s problems on greedy busi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 to reject anything associated with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many business skills are relevant to activists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ment and leadership skills, so you can organize people to work together to achieve a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eting and sales skills, so you can communicate and “sell” your message to the general public in an effective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 management skills, so you can be more productive in your activis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ook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Lifelong Activis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 Hillary Rettig is useful.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lains the importance of these skills for activ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s simple, introductory lessons for some useful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68400" y="66600"/>
            <a:ext cx="1741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have an excellent core skill but poor non-cor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or non-core skills are likely to hold you back, both in a paying career and in activ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important to find ways to improve your non-cor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f-study is probably a more affordable way than formal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5:48Z</dcterms:modified>
  <cp:revision>1125</cp:revision>
  <dc:subject/>
  <dc:title>Overlap of Business Skills and Activist Skills</dc:title>
</cp:coreProperties>
</file>