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348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chorCtr="1">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Challenging Hidden Assumptions in Loaded Question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87E7F63B-05FD-4326-9A1E-6E28FD18A47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D922D2BA-F9DE-4402-B07A-F7AEFB0D242A}"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040"/>
            <a:ext cx="8858160" cy="98100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Challenging Hidden Assumptions</a:t>
            </a:r>
            <a:br>
              <a:rPr sz="3600"/>
            </a:br>
            <a:r>
              <a:rPr b="1" lang="en-GB" sz="3600" spc="-1" strike="noStrike">
                <a:solidFill>
                  <a:srgbClr val="000000"/>
                </a:solidFill>
                <a:latin typeface="Arial"/>
              </a:rPr>
              <a:t>in Loaded Question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4"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Homosexuality is not normal (or na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4680" y="66600"/>
            <a:ext cx="7319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not normal (or natural)”</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t>
            </a:r>
            <a:r>
              <a:rPr b="0" lang="en-GB" sz="2400" spc="-1" strike="noStrike">
                <a:solidFill>
                  <a:srgbClr val="000000"/>
                </a:solidFill>
                <a:latin typeface="Arial"/>
              </a:rPr>
              <a:t>Normal” has several meanings, includ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ypical, comm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ral or eth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t>
            </a:r>
            <a:r>
              <a:rPr b="0" lang="en-GB" sz="2400" spc="-1" strike="noStrike">
                <a:solidFill>
                  <a:srgbClr val="000000"/>
                </a:solidFill>
                <a:latin typeface="Arial"/>
              </a:rPr>
              <a:t>Natural” has several meanings, includ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ccurs in nature (which means that it is typical or comm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oral or eth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next few slid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scuss some common approaches to tackling this loaded clai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n discuss an assumption hidden in the cla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36600" y="66600"/>
            <a:ext cx="84866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not common or part of nature”</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to “homosexuality is not common and does not occur in natur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Use an Internet search engine for “homosexuality anim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ne useful reference: http://www.news-medical.net/?id=20718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mmary of search:</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mosexuality has been observed in over 1500 spe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cluding hum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25440" y="66600"/>
            <a:ext cx="4886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Homosexuality is immoral”</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to “homosexuality is immoral”…</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morality is defined in terms of religious beliefs, s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ook in the Bible (or equivalent book for another religion) for:</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utral or positive references to homosexual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ther taboos that are widely ignored toda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rgue that such contradictions enable us to ignore Bible-based homophobia with a clear conscienc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30320" y="66600"/>
            <a:ext cx="34239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Hidden assumption</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n assumption in “homosexuality is not norm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ssumption is that something else (heterosexuality) is norm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assumption can be challenged with a counter-clai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 don’t believe anyone is normal. Everyone is a perve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are two parts to this counter-clai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rt 1 (challenging “normal = typic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is enormous variety in sexual practices of (even) heterosexual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o one sexual position or act is dominant enough to be “typic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rt 2 (challenging “normal = mor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ligions condemn many sexual acts that (even) heterosexuals commonly emplo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fore, most heterosexuals are just as immoral as homosexu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8240" y="66600"/>
            <a:ext cx="757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hould hidden assumptions be challenged?</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urpose of the previous sli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s </a:t>
            </a:r>
            <a:r>
              <a:rPr b="0" i="1" lang="en-GB" sz="2000" spc="-1" strike="noStrike">
                <a:solidFill>
                  <a:srgbClr val="000000"/>
                </a:solidFill>
                <a:latin typeface="Arial"/>
              </a:rPr>
              <a:t>not </a:t>
            </a:r>
            <a:r>
              <a:rPr b="0" lang="en-GB" sz="2000" spc="-1" strike="noStrike">
                <a:solidFill>
                  <a:srgbClr val="000000"/>
                </a:solidFill>
                <a:latin typeface="Arial"/>
              </a:rPr>
              <a:t>to force you to argue that “everyone is a pervert” rather than “homosexuality is as normal as heterosexuali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is to make you aware of more </a:t>
            </a:r>
            <a:r>
              <a:rPr b="0" i="1" lang="en-GB" sz="2000" spc="-1" strike="noStrike">
                <a:solidFill>
                  <a:srgbClr val="000000"/>
                </a:solidFill>
                <a:latin typeface="Arial"/>
              </a:rPr>
              <a:t>options </a:t>
            </a:r>
            <a:r>
              <a:rPr b="0" lang="en-GB" sz="2000" spc="-1" strike="noStrike">
                <a:solidFill>
                  <a:srgbClr val="000000"/>
                </a:solidFill>
                <a:latin typeface="Arial"/>
              </a:rPr>
              <a:t>you have in argume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Note: if 2 things are “equally good” then they are “equally ba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fore, the following seem like opposites, but are simila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as normal as heterosexuali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Everyone (heterosexual and homosexual) is a perve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4. Implicit compar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25560" y="66600"/>
            <a:ext cx="3679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licit comparisons</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claims (“X” denotes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not normal (or natu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s are likely to be rapists (or paedophi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rapists, murderers,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ll of these claims contain implicit comparis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ity</a:t>
            </a:r>
            <a:r>
              <a:rPr b="0" lang="en-GB" sz="2000" spc="-1" strike="noStrike">
                <a:solidFill>
                  <a:srgbClr val="000000"/>
                </a:solidFill>
                <a:latin typeface="Arial"/>
              </a:rPr>
              <a:t>, homosexuality i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ity</a:t>
            </a:r>
            <a:r>
              <a:rPr b="0" lang="en-GB" sz="2000" spc="-1" strike="noStrike">
                <a:solidFill>
                  <a:srgbClr val="000000"/>
                </a:solidFill>
                <a:latin typeface="Arial"/>
              </a:rPr>
              <a:t>, homosexuality is not norm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heterosexuals</a:t>
            </a:r>
            <a:r>
              <a:rPr b="0" lang="en-GB" sz="2000" spc="-1" strike="noStrike">
                <a:solidFill>
                  <a:srgbClr val="000000"/>
                </a:solidFill>
                <a:latin typeface="Arial"/>
              </a:rPr>
              <a:t>, homosexuals are likely to be rapists</a:t>
            </a:r>
            <a:br>
              <a:rPr sz="2000"/>
            </a:br>
            <a:r>
              <a:rPr b="0" lang="en-GB" sz="2000" spc="-1" strike="noStrike">
                <a:solidFill>
                  <a:srgbClr val="000000"/>
                </a:solidFill>
                <a:latin typeface="Arial"/>
              </a:rPr>
              <a:t>(or paedophi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us</a:t>
            </a:r>
            <a:r>
              <a:rPr b="0" lang="en-GB" sz="2000" spc="-1" strike="noStrike">
                <a:solidFill>
                  <a:srgbClr val="000000"/>
                </a:solidFill>
                <a:latin typeface="Arial"/>
              </a:rPr>
              <a:t>, 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1" lang="en-GB" sz="2000" spc="-1" strike="noStrike">
                <a:solidFill>
                  <a:srgbClr val="000000"/>
                </a:solidFill>
                <a:latin typeface="Arial"/>
              </a:rPr>
              <a:t>Unlike us</a:t>
            </a:r>
            <a:r>
              <a:rPr b="0" lang="en-GB" sz="2000" spc="-1" strike="noStrike">
                <a:solidFill>
                  <a:srgbClr val="000000"/>
                </a:solidFill>
                <a:latin typeface="Arial"/>
              </a:rPr>
              <a:t>, X people are rapists, murderers, …”</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53840" y="66600"/>
            <a:ext cx="5815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hallenging implicit comparisons</a:t>
            </a:r>
            <a:endParaRPr b="1" lang="en-US" sz="2800" spc="-1" strike="noStrike">
              <a:solidFill>
                <a:srgbClr val="000000"/>
              </a:solidFill>
              <a:latin typeface="Arial"/>
            </a:endParaRPr>
          </a:p>
        </p:txBody>
      </p:sp>
      <p:sp>
        <p:nvSpPr>
          <p:cNvPr id="12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6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can be useful to challenge the implicit comparis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uld heterosexuality be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s heterosexuality norma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crime figures prove that sex-related crimes per 1000 heterosexuals is lower than sex-related crimes per 1000 homosexual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non-X people have high moral standar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crime figures prove that non-X people have lower crime rat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erhaps non-X people commit lots of crimes that are socially acceptable and hence go unrecognised. Examples:</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b and housing discrimination against X people</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arassment, exploitation, rape, murder, genocide of X peopl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ften, crimes by non-X people are viewed differently than similar crimes committed by X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83880" y="66600"/>
            <a:ext cx="7180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Background information about Malcolm X</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is original surname was Little. He grew up po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came a criminal:</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obbery, selling drugs, illegal gambling, “steering” (escorting white clients to brothels in black ghetto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pent 8 years in prison. Converted to Islam while in jail</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nged his surname to X to reject the name of slave own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hen released from pris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became a minister in the Nation of Islam and helped increase membership from 400 to 40,000</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was a black-rights activist in the 1950s and 1960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Wrote “The Autobiography of Malcolm X” before being assassin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6320" y="66600"/>
            <a:ext cx="64292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X people have low moral standards”</a:t>
            </a:r>
            <a:endParaRPr b="1" lang="en-US" sz="2800" spc="-1" strike="noStrike">
              <a:solidFill>
                <a:srgbClr val="000000"/>
              </a:solidFill>
              <a:latin typeface="Arial"/>
            </a:endParaRPr>
          </a:p>
        </p:txBody>
      </p:sp>
      <p:sp>
        <p:nvSpPr>
          <p:cNvPr id="12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all, “X” stands for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o not confuse the “X” placeholder with Malcolm X</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pter 7 (“Hustler”)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steering” job and conversations with prostitute friends enabled him to compare the (lack of) moral standards of whites and bla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robably a better-informed comparison than that of many “respectable” peop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conclusion: “The hypocritical white man will talk about the Negro’s ‘low morals’. But who has the world’s lowest morals if not wh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84200" y="66600"/>
            <a:ext cx="6369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X people are rapists, murderers, …”</a:t>
            </a:r>
            <a:endParaRPr b="1" lang="en-US" sz="2800" spc="-1" strike="noStrike">
              <a:solidFill>
                <a:srgbClr val="000000"/>
              </a:solidFill>
              <a:latin typeface="Arial"/>
            </a:endParaRPr>
          </a:p>
        </p:txBody>
      </p:sp>
      <p:sp>
        <p:nvSpPr>
          <p:cNvPr id="12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non-X people conveniently overlook the large-scale crimes that their government commits on their behalf</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hapter 11 (“Saved”)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lcolm X read lots of books in the prison libra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And I read the histories of various nations, which opened my eyes gradually then wider and wider, to how the whole world’s white men had indeed acted like devils, pillaging and raping and bleeding and draining the whole world’s non-white peopl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4400" y="66600"/>
            <a:ext cx="3129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Double standards</a:t>
            </a:r>
            <a:endParaRPr b="1" lang="en-US" sz="2800" spc="-1" strike="noStrike">
              <a:solidFill>
                <a:srgbClr val="000000"/>
              </a:solidFill>
              <a:latin typeface="Arial"/>
            </a:endParaRPr>
          </a:p>
        </p:txBody>
      </p:sp>
      <p:sp>
        <p:nvSpPr>
          <p:cNvPr id="12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non-X people use a double standard when commenting on similar crimes committed by X and non-X peop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hapter 18 (“El-Hajj Malik El-Shabazz”) of Malcolm X’s autobiograph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New York white youth were killing victims; that was a ‘sociological’ problem. But when black youth killed somebody, the power structure was looking to hang somebody.</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When whites had rifles in their homes, the Constitution gave them the right to protect their home and themselves. But when black people even spoke of having rifles in their homes, that was ‘ominou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73480" y="66600"/>
            <a:ext cx="43164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Double standards (cont’)</a:t>
            </a:r>
            <a:endParaRPr b="1" lang="en-US" sz="2800" spc="-1" strike="noStrike">
              <a:solidFill>
                <a:srgbClr val="000000"/>
              </a:solidFill>
              <a:latin typeface="Arial"/>
            </a:endParaRPr>
          </a:p>
        </p:txBody>
      </p:sp>
      <p:sp>
        <p:nvSpPr>
          <p:cNvPr id="13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July 2007, some Muslim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lanted two car bombs outside London nightclub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rashed a car into Glasgow airpo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se events were widely reported in the English media</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t there was significantly less reports of the 25+ retaliation attacks in the following weeks</a:t>
            </a:r>
            <a:br>
              <a:rPr sz="2000"/>
            </a:br>
            <a:r>
              <a:rPr b="0" lang="en-US" sz="2000" spc="-1" strike="noStrike">
                <a:solidFill>
                  <a:srgbClr val="000000"/>
                </a:solidFill>
                <a:latin typeface="Arial"/>
              </a:rPr>
              <a:t>(including a car bomb, a petrol bomb, and a near-fatal stabb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sults of Google search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car bomb Glasgow airport”: 75,500 resul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car bomb Glasgow airport revenge”: 882 results</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3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Summary and 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04840" y="66600"/>
            <a:ext cx="5104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 and further reading</a:t>
            </a:r>
            <a:endParaRPr b="1" lang="en-US" sz="2800" spc="-1" strike="noStrike">
              <a:solidFill>
                <a:srgbClr val="000000"/>
              </a:solidFill>
              <a:latin typeface="Arial"/>
            </a:endParaRPr>
          </a:p>
        </p:txBody>
      </p:sp>
      <p:sp>
        <p:nvSpPr>
          <p:cNvPr id="13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claims about oppressed groups are loaded with hidden assump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Homosexuality is just a phase” assumes that a phase is ba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a:t>
            </a:r>
            <a:r>
              <a:rPr b="1" lang="en-GB" sz="2000" spc="-1" strike="noStrike">
                <a:solidFill>
                  <a:srgbClr val="000000"/>
                </a:solidFill>
                <a:latin typeface="Arial"/>
              </a:rPr>
              <a:t>Unlike us</a:t>
            </a:r>
            <a:r>
              <a:rPr b="0" lang="en-GB" sz="2000" spc="-1" strike="noStrike">
                <a:solidFill>
                  <a:srgbClr val="000000"/>
                </a:solidFill>
                <a:latin typeface="Arial"/>
              </a:rPr>
              <a:t>, 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assumption is that non-X people have high moral standar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can counter such claims by challenging the hidden assumptions/comparison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commended boo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The Gentle Art of Verbal Self Defense” by Suzette Haden Elg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was the first in a series of boo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ther titles in the series tailor the message for different audiences.</a:t>
            </a:r>
            <a:br>
              <a:rPr sz="2000"/>
            </a:br>
            <a:r>
              <a:rPr b="0" lang="en-GB" sz="2000" spc="-1" strike="noStrike">
                <a:solidFill>
                  <a:srgbClr val="000000"/>
                </a:solidFill>
                <a:latin typeface="Arial"/>
              </a:rPr>
              <a:t>Examples: at work, communicating with childr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59200" y="66600"/>
            <a:ext cx="3168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oaded questions</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ere is a famous example of a “loaded” (or “trick”) ques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Have you stopped beating your wif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question makes two important assump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have a wif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have beaten her at some 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question invites a “yes” or “no” answ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ither of these answers is an admission that you are/were a wife be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Better tactic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fuse to answer the question. 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llenge the assumptions made in a loaded question or claim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
        <p:nvSpPr>
          <p:cNvPr id="91" name=""/>
          <p:cNvSpPr/>
          <p:nvPr/>
        </p:nvSpPr>
        <p:spPr>
          <a:xfrm>
            <a:off x="3809880" y="5791320"/>
            <a:ext cx="2819520" cy="3405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is presentation</a:t>
            </a:r>
            <a:endParaRPr b="0" lang="en-US" sz="1800" spc="-1" strike="noStrike">
              <a:solidFill>
                <a:srgbClr val="000000"/>
              </a:solidFill>
              <a:latin typeface="Times New Roman"/>
            </a:endParaRPr>
          </a:p>
        </p:txBody>
      </p:sp>
      <p:sp>
        <p:nvSpPr>
          <p:cNvPr id="92" name=""/>
          <p:cNvSpPr/>
          <p:nvPr/>
        </p:nvSpPr>
        <p:spPr>
          <a:xfrm flipH="1" flipV="1">
            <a:off x="1981080" y="5257440"/>
            <a:ext cx="1828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71680" y="66600"/>
            <a:ext cx="25941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oaded claims</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claims about oppressed groups are loade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for homosexuality (or another aspect of sexua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s just a phas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ity is not normal (or natu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Homosexuals are likely to be rapists (or paedophil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for racism (where “X” stands for an ethnic group):</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have low moral standar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rapists, murderers,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X people are terroris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Let’s examine some of these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6"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It’s just a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68200" y="66600"/>
            <a:ext cx="3148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t>
            </a:r>
            <a:r>
              <a:rPr b="1" lang="en-GB" sz="2800" spc="-1" strike="noStrike">
                <a:solidFill>
                  <a:srgbClr val="000000"/>
                </a:solidFill>
                <a:latin typeface="Arial"/>
              </a:rPr>
              <a:t>It’s just a phase”</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mmon reply: “it’s </a:t>
            </a:r>
            <a:r>
              <a:rPr b="0" i="1" lang="en-GB" sz="2400" spc="-1" strike="noStrike">
                <a:solidFill>
                  <a:srgbClr val="000000"/>
                </a:solidFill>
                <a:latin typeface="Arial"/>
              </a:rPr>
              <a:t>not </a:t>
            </a:r>
            <a:r>
              <a:rPr b="0" lang="en-GB" sz="2400" spc="-1" strike="noStrike">
                <a:solidFill>
                  <a:srgbClr val="000000"/>
                </a:solidFill>
                <a:latin typeface="Arial"/>
              </a:rPr>
              <a:t>a phase. I’ve been like this for year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ounter-reply: “You will </a:t>
            </a:r>
            <a:r>
              <a:rPr b="0" i="1" lang="en-GB" sz="2000" spc="-1" strike="noStrike">
                <a:solidFill>
                  <a:srgbClr val="000000"/>
                </a:solidFill>
                <a:latin typeface="Arial"/>
              </a:rPr>
              <a:t>eventually </a:t>
            </a:r>
            <a:r>
              <a:rPr b="0" lang="en-GB" sz="2000" spc="-1" strike="noStrike">
                <a:solidFill>
                  <a:srgbClr val="000000"/>
                </a:solidFill>
                <a:latin typeface="Arial"/>
              </a:rPr>
              <a:t>grow out of i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mplicit assumption in the clai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word “just” is used in the claim to reduce importan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o, the assumption is that a phase is not importa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ctually, phases occur throughout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childhood, adolescence, (young) adult, middle age, old ag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as your childhood unimportant “just” because it was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length of a phase is not a measure of its importa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ildhood lasts more than a deca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terrible twos” last (hopefully) only a few months but are an important part of a child’s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77760" y="66600"/>
            <a:ext cx="3544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amples of phases</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ablo Picasso went through many phases (periods) in his a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lue period, rose period, African period, (various types of) cubis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common for a musician or band to change musical styl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arly U2 is quite different to later U2. Same for the Beatl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ink Floyd: psychedelic period, Dark Side of the Moon, later on Roger Waters wrote an opera</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uring your life you probably had phases for lik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bbies: reading, art, model construction, danci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musicians or genres of music, authors or genres of boo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genres of) movies, TV shows, actors, directo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kinds of spo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types of food or drin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icular types of work, so you had a career change</a:t>
            </a: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35080" y="66600"/>
            <a:ext cx="5029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Phases should be celebrated</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not right to dismiss something because it is “just” a phas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nglish idiom: “variety is the spice of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ans that life is more interesting when you try different thing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hases in your life bring variety and so should be </a:t>
            </a:r>
            <a:r>
              <a:rPr b="0" i="1" lang="en-GB" sz="2400" spc="-1" strike="noStrike">
                <a:solidFill>
                  <a:srgbClr val="000000"/>
                </a:solidFill>
                <a:latin typeface="Arial"/>
              </a:rPr>
              <a:t>celebrated</a:t>
            </a:r>
            <a:r>
              <a:rPr b="0" lang="en-GB"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hypothetical convers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X:</a:t>
            </a:r>
            <a:r>
              <a:rPr b="0" lang="en-GB" sz="2000" spc="-1" strike="noStrike">
                <a:solidFill>
                  <a:srgbClr val="000000"/>
                </a:solidFill>
                <a:latin typeface="Arial"/>
              </a:rPr>
              <a:t>	</a:t>
            </a:r>
            <a:r>
              <a:rPr b="0" lang="en-GB" sz="2000" spc="-1" strike="noStrike">
                <a:solidFill>
                  <a:srgbClr val="000000"/>
                </a:solidFill>
                <a:latin typeface="Arial"/>
              </a:rPr>
              <a:t>“Your homosexuality is just a phase”</a:t>
            </a:r>
            <a:endParaRPr b="0" lang="en-US" sz="2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a:t>
            </a:r>
            <a:r>
              <a:rPr b="0" lang="en-GB" sz="2000" spc="-1" strike="noStrike">
                <a:solidFill>
                  <a:srgbClr val="000000"/>
                </a:solidFill>
                <a:latin typeface="Arial"/>
              </a:rPr>
              <a:t>	</a:t>
            </a:r>
            <a:r>
              <a:rPr b="0" lang="en-GB" sz="2000" spc="-1" strike="noStrike">
                <a:solidFill>
                  <a:srgbClr val="000000"/>
                </a:solidFill>
                <a:latin typeface="Arial"/>
              </a:rPr>
              <a:t>“Possibly. Of course, that means my heterosexuality was a phase too.</a:t>
            </a:r>
            <a:br>
              <a:rPr sz="2000"/>
            </a:br>
            <a:r>
              <a:rPr b="0" lang="en-GB" sz="2000" spc="-1" strike="noStrike">
                <a:solidFill>
                  <a:srgbClr val="000000"/>
                </a:solidFill>
                <a:latin typeface="Arial"/>
              </a:rPr>
              <a:t>	</a:t>
            </a:r>
            <a:r>
              <a:rPr b="0" lang="en-GB" sz="2000" spc="-1" strike="noStrike">
                <a:solidFill>
                  <a:srgbClr val="000000"/>
                </a:solidFill>
                <a:latin typeface="Arial"/>
              </a:rPr>
              <a:t>Do you think your heterosexuality is also a phas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X is likely to feel baffled and possibly angry by the respons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 is </a:t>
            </a:r>
            <a:r>
              <a:rPr b="0" i="1" lang="en-GB" sz="2000" spc="-1" strike="noStrike">
                <a:solidFill>
                  <a:srgbClr val="000000"/>
                </a:solidFill>
                <a:latin typeface="Arial"/>
              </a:rPr>
              <a:t>not </a:t>
            </a:r>
            <a:r>
              <a:rPr b="0" lang="en-GB" sz="2000" spc="-1" strike="noStrike">
                <a:solidFill>
                  <a:srgbClr val="000000"/>
                </a:solidFill>
                <a:latin typeface="Arial"/>
              </a:rPr>
              <a:t>defending his/her sexualit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stead, Y is challenging core beliefs and assumptions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8T22:42:47Z</dcterms:modified>
  <cp:revision>1167</cp:revision>
  <dc:subject/>
  <dc:title>Challenging Hidden Assumptions in Loaded Questions</dc:title>
</cp:coreProperties>
</file>