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tereotypical Skills for Activ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60AC7CE-2111-4937-A771-BD06BDE28C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C738E4E-9608-437A-B01A-5EDD1D17F4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on-stereotypical Skills for Activ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eel constrained by stereotypical forms of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ways to help the world by doing things that you lik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63360" y="66600"/>
            <a:ext cx="5403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reotypical form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activism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ving a placard and shouting angry slogans in a protest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ng flyers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ing part in endless committe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ing for hours with a collection bucket to raise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 letters to polit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 do those thing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ppeal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 things that you don’t enjoy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find them tedious and frust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quickly giv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ever activism you do should be enjoyable and re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you will look forward to do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you won’t get stressed or bur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65200" y="66600"/>
            <a:ext cx="6176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stereotypical forms of activ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’t limit yourself to stereotypical forms of a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focus on your innate skills or activities you find pl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ways to use them in acti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teaching or explaining th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t of activism involves educating the public. Coul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ave good writing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you write leaflets, articles or books about an activist ca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enjoy photograp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think of ways these skills might be useful to an activi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decora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help redecorate the headquarters of an activist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6800" y="66600"/>
            <a:ext cx="7364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stereotypical forms of activ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good at coo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cook lunch when an activist group has an all-day mee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ave dreams of being a film dire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could you make a documentary relevant to an activist ca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like gard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brighten up the activist headquarters with fl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grow a particular type of flower in large quant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ll in a fund-raising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se in a dramatic way at an activist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2424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Ciaran McH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aran’s skil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ing complex issues and re-explaining them more sim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 training courses (mainly about computer tech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skills are not stereotypical activis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aran used those skill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d a lot about people who have changed the wor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tivists, entrepreneurs, inventors, and so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noticed they shared many skills and faced similar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this training course to explain those skills and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the training course available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aran wants to help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cquire skills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aran wants to do this on a massiv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s are given in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wo Kinds of 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of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felt proprietary software was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have “power over people” to force companies to make their software non-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d he had “power to help people” by writing his own non-proprietar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’s non-stereotypical activist skill was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sked myself: what could I, an operating-system developer, do to improve the situation? It wasn’t until I examined the question for a while that I realized that an operating-system developer was exactly what was needed to solve the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35120" y="66600"/>
            <a:ext cx="4019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Joanna Ru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anna Russ’ skil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an author (mainly science f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ep knowledge of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frustrated that literature written by women is often dismissed as being inferior to literature written by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research, she identified several historical ways women’s writing had been sup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documented this i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Suppress Women’s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056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qu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ask yourself what the world needs. Ask yourself what makes you come alive, and then go do that. Because what the world needs is people who have come aliv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ard Thurman (18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1), American author, philosopher, theologian, educator and civil right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work is to discover your work and then with all your heart to give yourself to i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d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ing sometimes for the war that I f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Cause every tool is a weap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old it 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 diFranco in her so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I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31T16:35:51Z</dcterms:modified>
  <cp:revision>1118</cp:revision>
  <dc:subject/>
  <dc:title>Non-stereotypical Skills for Activism</dc:title>
</cp:coreProperties>
</file>