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felong 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66E32035-5B99-406E-999E-E08335A90A9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184DBB22-B9CB-4A3B-A917-6DDB49A4A40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ifelong Lear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66600"/>
            <a:ext cx="63342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levance of home schooling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critics of the regular school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not believe schools teach a lot that 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ele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 they believe schools teach a lot that 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armfu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art of this harm involves destroying entrepreneurial spir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spaper articles about a business tycoon might s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achieved his great succes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spit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ving school at the age of 12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haps the newspaper article should s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achieved his great succes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left school at the age of 12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think “I’m not educated enough to change the worl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don’t need a Ph.D. or MBA, or even a high school dipl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17560" y="66600"/>
            <a:ext cx="5695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ibliography for home schoo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tailed discussion of home schooling is outside the scope of this training cour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are interested in this topic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by reading personal accounts of home-schooling famili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ree Range Edu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dited by Terri Dow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Teenage Liberation Hand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y Grace Llewelly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l Li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dited by Grace Llewelly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theory and history of home schooling, read books by John Hol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John Taylor Ga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felong learning is common to many successful 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biographies explicitly mention lifelong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all learners are leaders, but the research clearly shows that the strongest leaders are continuous learners.”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Jim Clem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felong learning doe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 to involve formal edu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ten it is done by reading a wide range of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by trying new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tate of flow helps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me-schooling books are interesting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ven if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disagree with much of what they s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ir critiques of regular schooling can be insight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suggest effective ways to learn without the expense of schoo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can help you to increase your conf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7120" y="66600"/>
            <a:ext cx="6053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importance of lifelong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ographies of people who have changed the world indicate that they never stopped lear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learned partly because they enjoyed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ten, things they learned provided inspiration for thei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times, they got cross-fertilization of ideas from different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evant quote (and articl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5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all learners are leaders, but the research clearly shows that the strongest leaders are continuous learners.”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Jim Clemmer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jimclemmer.com/leadership-and-learning-are-indispensable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want to change the world then increase your chances by continually learning throughout you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Practical issues for lifelong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01440" y="66600"/>
            <a:ext cx="5519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chniques for lifelong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felong learning can take different for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people read books in their spar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seek out new exper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all from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low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flow experience provides a challenge so it promotes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many successful people, continual learning rarely involves formal edu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ographies indicate many successful people actually dislike formal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16000" y="66600"/>
            <a:ext cx="3267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arning par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aware of “learning paralysi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nding years to learn something “properly” before you start doin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reality, there are two ways to lear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ust do it. The practice will make you b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ust do it, and complement this with reading about the su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ing about a subject is rarely sufficient by it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rigin of learning paralysis might be in the school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hools use book reading and lectures as the primary learning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rning through practice is much less common in 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want to change the world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ust do it. The practice will make you b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lement the “doing” with learning, but don’t postpone the “do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Home schoo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41440" y="66600"/>
            <a:ext cx="4430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at is home schooling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ome schoolin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learning at home instead of in a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family might choose home schooling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amily travels constantly (perhaps in a circus) so children cannot be enrolled in a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ir children struggle academically in school or are bul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ir children learn best in their own time and at their own 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thin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gular school is best or is the only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me schooling is an inferior substitute, to be used only if attending a regular school is im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a growing number of people thin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gular school is actively harmful t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me schooling is prefe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59120" y="66600"/>
            <a:ext cx="5146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levance of home schoo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me schooling is relevant to this course in several way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lack the confidence to try to change the world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attending regular schools destroyed your conf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books about home schooling offer good critiques of what problems exist in regular 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ay gain a “It’s not just me” or “It’s not my fault” insight that can restore your conf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haps you suffer from learning paraly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oks about home schooling explain wh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oi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thing can be a better way to learn than jus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ading abou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ay gain the confidence to do things imperfectly now rather than wait until you are an expert before you start to do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35:12Z</dcterms:modified>
  <cp:revision>1125</cp:revision>
  <dc:subject/>
  <dc:title>Lifelong Learning</dc:title>
</cp:coreProperties>
</file>