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 a Weakness into a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9B34BA74-9B31-4D33-BB15-58181F38DCD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A8C52536-D17A-4674-BF2D-D3C578F9BBA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urn a Weakness into a Streng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01600" y="66600"/>
            <a:ext cx="3282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ir Arthur Pear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r Arthur Pear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nded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aily Expres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spaper in Eng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dually lost his eyesight due to the disease Glauc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World War One star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thur heard about a soldier who had been blinded in bat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realized that many other soldiers would also be bli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default, most of them would lead “hopeless and useless liv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thur founded a hospital, St Dunstan’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he hospital, soldiers could “learn to be blin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ing blind himself, Arthur was able to inspire and teach the sold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68400" y="66600"/>
            <a:ext cx="17413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have a weakness of some so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a dis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a lack of skill, social etiquette or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weakness does not have to hold you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times it is possible to turn a weakness into a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have a weakness of some so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a dis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a lack of sk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can you do with a weakness you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ould use it as an excuse to not try to succeed. O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ould find a way to turn the weakness into a str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provides some examples of people who turned a weakness into a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2520" y="66600"/>
            <a:ext cx="223704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amie Oli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mie Oliver is a celebrity chef in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suffers from dyslex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could he turn that disability into a benef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people with dyslexia find ways to express themselves that do not involve reading or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, through art or physical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mie uses a lot of body movement when communica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makes him work well in front of a cam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fact, this helped him get his initial contract to be a TV ch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V chef needs to write recipe boo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amie dictates his recipe books (9 so far) into a tape recorder and gets somebody else to type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ctation is probably a faster way to write than typing or pen-and-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41160" y="66600"/>
            <a:ext cx="2397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uce Jenn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uce Jenner won a gold medal in the 1976 Olympics in the decath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has dyslex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Bruce, the difficulty of reading taught him to work hard to achieve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I wasn’t dyslexic, I probably wouldn’t have won the Games. If I had been a better reader then that would have come easily, sports would have come easily… and I never would have realized that the way you get ahead in life is hard work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17920" y="66600"/>
            <a:ext cx="20383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ob Geldo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b Geld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hieved fame as the lead singer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Boomtown Ra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co-authored the Band-Aid singl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o They Know It’s Christmas?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helped organize Live Aid (and, 20 years later, Live 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b’s weakness is that he is tactless and often says the wrong th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held back the career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Boomtown Ra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b was able to turn this drawback into a benef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enabled him to say things to world leaders that other people were too timid to s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62160" y="66600"/>
            <a:ext cx="3027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ichard Stallm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le growing up, Richard Stallman was a social outca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e to a combination of poor social skills, a lack of interest in popular culture, his high intelligence and geekin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turned this into a streng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ing a social outcast meant that he grew used to rejection. S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did not fear yet more rejection when he started to develop fre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81040" y="66600"/>
            <a:ext cx="2514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ita Roddi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ita Roddick founde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Body Sho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r weakness was very limited fin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, she could not afford “proper” packaging bottles for shampo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heapest bottles she could find were urine sample bott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e asked customers to bring back empty bottles for ref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cept of cheap, reusable packaging became a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fit in with ideas of environment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65320" y="66600"/>
            <a:ext cx="1346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andh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ndhi’s weakness was a fear of public speak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greatly hindered his social life and his career as a lawyer in 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ndhi turned his weakness into a streng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thought carefully about what he wanted to say before he opened his mo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of th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learned to communicate concis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rarely said things that he later regre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ntually, Gandhi overcame his fear of spe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he continued to think carefully before spe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29:22Z</dcterms:modified>
  <cp:revision>1120</cp:revision>
  <dc:subject/>
  <dc:title>Turn a Weakness into a Strength</dc:title>
</cp:coreProperties>
</file>