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1469C5F-A223-4AC3-AFA6-5298BC806B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7436905-A05D-444F-AD6A-77AF999937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240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somebody you disli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s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somebody you know personally or somebo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ry to think of something you like or admire about that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oing so makes you feel uncomfortable then that is an example of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240" y="66600"/>
            <a:ext cx="86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 dissonance can cause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we have a strong opinion about Fred’s pers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he is very charming (good) or obnoxious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ight assume that Fred is equally “good” or “bad”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rel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ard-working (good) or lazy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he is honest (good) or dishonest (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way, we can maintain a polarized opin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g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arming, hard-working and honest).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ly b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noxious, lazy and dishon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suggests that we may ignore any evidence that contradicts our belief about F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be better to recognize both good and bad in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at could result in cognitive dis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7480" y="66600"/>
            <a:ext cx="5383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other people perceive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and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ffect how you view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affect how other people view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do not have a strong opinion abou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 few people do have a strong and very polarized opinion of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m think you are totally 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unfortunately, some others think you are a total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21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your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happens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olleagues think you are a total jerk,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a great idea for improving business (or changing the worl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produce cognitive dissonance in the minds of your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ind it difficult to like your idea while simultaneously disli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bias will probably result, and they will ignore or ridicule your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areer will g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ch bet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 not give people reasons to think you are a jerk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in an argument in a way that makes people think you are a j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4880" y="66600"/>
            <a:ext cx="4632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ing personal in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try to bring about change often face critic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xpect criticisms of thei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also receive personal in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Stallman is an activist for “free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riticise his id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ose people also criticise his personality and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 can explain why thi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fficult to dislike one aspect of a person while liking another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you dislike (or like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arguing that a person has a character fault is subconsciously thought of as being equivalent to arguing against that person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8400" y="66600"/>
            <a:ext cx="174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comfortable feeling caused by holding two contradictory ideas (cognitions)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comes from two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act or process of knowing;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son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lack of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cause of confirmation b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remove dissonance by ignoring one of the conflicting vi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us to have polarized views of peo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erson is “totally good” or “totally ba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agues who think you are a “total jerk” will ignore your great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may attack you personally instead of attacking you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5:59Z</dcterms:modified>
  <cp:revision>1169</cp:revision>
  <dc:subject/>
  <dc:title>Confirmation Bias</dc:title>
</cp:coreProperties>
</file>