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8290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irmation B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8AA3C4C2-479E-47A8-92C1-FCE9B31313B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5D7FAA84-E3A1-4D6A-A0FD-69D47C9A4B2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firmation Bi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69920" y="66600"/>
            <a:ext cx="3344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overnment poli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imes, confirmation bias can be seen in the actions of a government or the senior managers of a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sequence of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government examines available information and makes a policy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the policy is implemented, new information is found that suggests the policy might be a bad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overnment’s response might display confirmation bi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gnore any information that discredits the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(or invent) other facts that support the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6520" y="66600"/>
            <a:ext cx="6292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ther examples of confirmation b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ypochondriacs may ignore the “healthy” signals from their bodies and instead focus only on the “unhealthy”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wise, confirmation bias may worsen paranoia or de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sayings allude to confirmation b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only get one chance to make a good first impress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important to keep an open min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ve is blin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is an ange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is a good for noth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is a ne’er do well”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“ne’er” means “never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4840" y="66600"/>
            <a:ext cx="8804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firmation bias leads to self-fulfilling prophe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elf-fulfilling prophecy can be rooted in belief of a stere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ommon stereotype is that physically attractive people are more sociable, confident and humorous than physically unattractive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ne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n were asked to have telephone conversations with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women were described to the men as being attr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women were described to the men as being unattr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man’s behaviour during the telephone calls was influenced by what he had been told about a wo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urn, this influenced how the woman responded to the 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effect, a man’s expectations of a woman became a self-fulfilling prophe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nfirmation bias and preju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9280" y="66600"/>
            <a:ext cx="7694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difficult to recognise our own prejud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easy to recognize and condemn prejud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ot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when you read about prejudice in another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ifficult to recogn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r ow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jud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not consciously realize you dislike a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consciously realize you dislike a group but think the dislike is based on a good 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f you accept you have a prejudice, it may not be safe to publicly admi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s a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think the world would be a better place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ther peop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ped being prejudiced.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’t recognize and adm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ow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judices then how can you hel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ther peop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cognize and elimin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ju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25520" y="66600"/>
            <a:ext cx="6454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effective way to tackle prejud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assume you say to Fred: “You are racis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reaction from F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realizes that you have accuse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m of some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Fred does not like being accused, he will try to defend himself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ying he did anything rac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ing to justify his beliefs or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-attacking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hances of changing Fred’s prejudiced beliefs and behaviour are sl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 better w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06640" y="66600"/>
            <a:ext cx="6889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ore effective way to tackle prejud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etter way to tackle prejudice might be as follow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concept of confirmation bias to F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examples that have nothing to do with preju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wide variety of examples to show that confirmation bias is ubiquit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explain how confirmation bias plays a role in prejud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hild is repeatedly told stereotypes about “X”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ild assumes this information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, when the child grows up and encounters X people, sh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s behaviour that agrees with the stereo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notice behaviour that disagrees with the stereo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d on the next sli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9680" y="66600"/>
            <a:ext cx="8077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ore effective way to tackle prejudic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ask if some of Fred’s beliefs might be a result of confirmation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actic is likely to be more successful, for several r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d is less likely to get defensive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firmation bi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s less like an accusation th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ac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explained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bod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ffers from confirmation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 will be able to think of non-racist examples of confirmation bias in his own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made Fred aware of a general princi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, he might use knowledge of confirmation bias to re-examine some of his other possibly-prejudiced beliefs towards oth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firmation bia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form an opinion based on evidence available initi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wards, you are likely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k out more evidence that supports your already-formed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nore (or neglect to seek out) evidence that contradicts your already-formed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ion bias is ubiquito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ief in astrology, fortune telling, gambling, scientific theories, medical treatments; our perceptions of other people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ion bias plays a big part in prejud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eading knowledge of confirmation bias might help to make people aware of their own prejudices in a non-accusatory m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6212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1960, Peter Wason performed the following experim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erson w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wn three numbers (a triplet), for example: 2, 4,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ld the numbers conformed to a particular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ked to generate their own triplets, and they would be told whether each triplet conformed to the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 person was sure what the rule was, they should announc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eople di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duce the correct r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rrect rule was “any sequence of increasing numbe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thought the rule was different, for example, “successive even numbers” or “numbers increasing by 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tested their hypothesis only with triplets that agreed with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4960" y="66600"/>
            <a:ext cx="3384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son’s experiment provides an example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nfirmation bi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form an opinion based on evidence available initi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wards, you are likely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k out more evidence that supports your already-formed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gnore (or neglect to seek out) evidence that contradicts your already-formed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more details, se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nfirmation Bias: A Ubiquitous Phenomenon in Many Guis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Raymond S. Nickerson, in Review of General Psychology 1998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lume 2, number 2, pages 17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s some more examples of confirmation bia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ost are taken from the above pap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lains how it is relevant to people who want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Examples of confirmation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66680" y="66600"/>
            <a:ext cx="3365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king predi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activities are based on an ability to make predi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astrology, fortune telling, gamb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of the predictions will be correct; some will be in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irmation bias can help preserve you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elie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such an 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use correct predictions as evidence to support your bel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ignore (or explain away) incorrect predi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wise, confirmation bias can help preserve you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isbelie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such an 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use incorrect predictions as evidence to support your disbel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ignore (or explain away) correct predi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4400" y="66600"/>
            <a:ext cx="4751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dging people’s charac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ne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were asked to comment on the sociability and friendliness of a guest lect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udents’ comments were heavily influenced by how the guest lecturer had been described before the lecture took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udents formed an initial opinion based on the description of the guest lect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udents used this initial opinion as a filter when observing the lecturer’s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noted behaviour that confirmed their initial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ignored behaviour that disagreed with their initial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9520" y="66600"/>
            <a:ext cx="1467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history of science shows a recurring patter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scientists believe theory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new theory, Y, is developed that contradicts theory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scientists continue to believe X due to the limited evidence in support of theory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time, more and more evidence in support of theory Y is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this happens, more and more scientists start to believe theory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pattern of behaviour is good. Howe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ew individual scientists will suffer from confirmation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will ignore or disbelieve the new evidence and continue to believe theory X for a lo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50600" y="66600"/>
            <a:ext cx="3999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-scientific medic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medical practices continued for decades or centuries before doctors realized they were ineffective or harm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the practice of bleeding a patient was widespread for about 200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an be explained by confirmation b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atients who received a particular treatment recover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is was viewed as evidence of the treatment’s effe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atients who received the same treatment did not recove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is information was ign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eople who did not receive the treatment recover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is information was also ign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28:04Z</dcterms:modified>
  <cp:revision>1168</cp:revision>
  <dc:subject/>
  <dc:title>Confirmation Bias</dc:title>
</cp:coreProperties>
</file>