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edience to Auth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70902BDD-1FE4-4582-A64D-82602199953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8FDADF25-50A6-4380-BD3A-2B6115933B4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Obedience to Author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1400" y="66600"/>
            <a:ext cx="6689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dictions of the experimental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fore starting the experiments, Stanley Milgram asked some colleagues to predict the outcome of the experi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predic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out 2/3 of the teachers would refuse to continue the first time the learner demanded the experiment be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out 1 in 1000 teachers would continue the experiment to the maximum voltag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78000" y="66600"/>
            <a:ext cx="4772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ctual experimental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sults of the experiment surprised every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ajority of teachers continued the experiment to the maximum voltag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surprising result is what caused Milgram to do so many variations of the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as trying to discover the factors that might cause people t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isobe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eachers wer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d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represented a wide variety of demo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displayed signs of increasing stress as the experiment went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argued and pleaded with researchers to stop the experiment, but continued reluctantly when the researcher asked them to do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Insights from the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0040" y="66600"/>
            <a:ext cx="5302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sights into human behaviou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xperiments provide some insights into human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ight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humans have a strong urge to obey authorit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ven wh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thority instructs them to do something against their con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“authority” does not have any means to punish people who disob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ight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faced with a conflict: (1) do something wrong or (2) disobey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pass the responsibility for the wrong-doing to the figure of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nce the “I was only following orders” defence of war cri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ight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licting hurt on another person can cause you to despise th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your conscience retrofits reasons to justify you hurting the per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5680" y="66600"/>
            <a:ext cx="7775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 is the relevance to changing the worl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ose insights are interesting insights into human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they are not necessarily relevant if you want to change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xperiments do provide other insights tha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e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before discussing those insights, we need to take a slight det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8280" y="66600"/>
            <a:ext cx="7243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theory to explain obedience to autho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ar the end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bedience to Authority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nley Milgram presents a theory to explai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ople obey autho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lgram notes that authority hierarchies are ubiquitous in human socie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mily: children obey parents; one spouse obeys the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igion, schools, places of work, the army, hospitals, team sports, systems of government, policing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hority hierarchies can also be observed in other animal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ubiquity suggests that authority hierarchies might be intrinsic to the nature of humans (and other spec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74960" y="66600"/>
            <a:ext cx="5122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of Milgram’s the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 fontScale="98000"/>
          </a:bodyPr>
          <a:p>
            <a:pPr marL="264600" indent="-2646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any spec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ontrolled competition among individuals will wipe out the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olution gives individuals a conscience that limits competi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5296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ociety in which each individual is a “Jack of all trades and a master of none” has a poor chance of surv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ized division of labour increases a society’s chances of surv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divisions of labour can be coordinated with a hierarchy of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is to work, individuals must be willing to obey authorit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mproves the survival chances for the society (and its individua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s to authority are stopped (viciously if necessary) because they decrease the society’s chances of surv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5296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 has decided that (2) takes precedence over (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esults in a strong instinct to obey authorit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ead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83840" y="66600"/>
            <a:ext cx="63104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of Milgram’s theory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dividual acting within a hierarc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nger views himself as acting out of his own purposes but rather comes to see himself as an agent for executing the wishes of another perso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eans an individual does not feel guilt if he obeys orders to do something immo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was just following order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ality is still present, but with a different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dividual “feels shame or pride depending on how adequately he has performed the actions called for by authorit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now discuss some insights relevant to changing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745080" y="66600"/>
            <a:ext cx="1584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ight 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nging about change may require you to challenge existing autho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the status quo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allenge the status quo’s authority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be surprised if some people try to viciously suppress your challenge of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overn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ht use dirty tactics to fight terror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ht also use dirty tactics to investigate peaceful protestors or those who publicly express criticisms of the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any has being doing a particular task the same way for yea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mployee finds a different and better way to do the same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mployee’s idea might be supp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mployee might be punished or sa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745080" y="66600"/>
            <a:ext cx="1584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ight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are fighting oppression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of your oppressors migh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tually hate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they could be just following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lson Mandela’s autobiography contains an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Chapter 72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ng Walk to Freed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lson Mandela was held at Robben Island pr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manding officer with a reputation for brutality was moved t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mmanding officer made life hell for the pris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 when the commanding officer was being transferred to another prison, he surprised Nelson Mandela by wishing him “Good lu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lson Mandela’s conclu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manding officer “was not evil; his inhumanity had been foisted upon him by an inhuman system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745080" y="66600"/>
            <a:ext cx="1584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ight 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dience drops if the teacher is aware of the learner’s p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er is in another room and the teach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n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r his scre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bedience is 6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er is in another room and the teach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r his scre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bedience is 62.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learner into the same room as the teach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bedience drops to 4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the teacher force the learner’s hand onto a metal plate to administer the electric shoc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bedience drops to 3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ant an “evil corporation” to stop doing ev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ways for its employees to directly sense (hear, see, touch, smell, taste) the effects of its evil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745080" y="66600"/>
            <a:ext cx="1584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ight 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bedient teachers tried to sabotage the experi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emphasised the correct answer when reading a list of possible ans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experimenter was not in the room then they administered the lowest voltage sh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al life analogy is an employee who leaks sensitive information to activist groups or journ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745080" y="66600"/>
            <a:ext cx="1584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ight 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s were done on a group of 3 teac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teacher read questions, another indicated if the learner’s answer was right or wrong, and the last teacher administered electric sh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one teacher was a volunteer; the other two were 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two actor teachers obey then the volunteer teacher’s obedience increases (to 92.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two actor teachers disobey then the volunteer teacher’s obedience decreases (to 1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experiments show the importance of group eff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ling you are just a cog in a wheel makes it difficult to disobey immoral orders (“If I don’t do it then somebody else will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ing others disobey immoral authority gives you courage to disob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why people in authority mu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uick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ress disobe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ley Milgram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bedience to Author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cked the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people can easily do e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Milgram’s the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olution has decided that obedience to authority takes precedence over an individual’s con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s to authority are often subdued, with violence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nging about change may require you to challenge existing autho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the status quo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allenge the status quo’s authority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be surprised if some people try to viciously suppress your challenge of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79800" y="66600"/>
            <a:ext cx="2928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are fighting oppression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of your oppressors migh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tually hate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they could be just following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ant an “evil corporation” to stop doing ev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ways for its employees to directly sense (hear, see, touch, smell, taste) the effects of its evil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employees with a troubled conscience may leak sensitive information to activists or journ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effects play an important role in obedi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ling you are just a cog in a wheel makes it difficult to disobey immoral orders (“If I don’t do it then somebody else will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ing others disobey immoral authority gives you courage to disob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916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World War II, nazi leaders were tried for war cr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of the accused claimed “I was just following orders” as their (unsuccessful)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nley Milgram was a social psychologist at Yale Univers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as curious about the “I was just following orders”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decided to test the willingness of people to follow orders that conflict with their con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sults of his experiments were publish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itially in academic journals in the 196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later in his 1974 book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bedience to Author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cribes the experiments and their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lains their relevance to people who want to change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Description of the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81000" y="66600"/>
            <a:ext cx="5344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scription of the experi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s of the public were recruited to take part in an experi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were told it was to test the effects of punishment on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experiment consisted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“learner” who was strapped into an electric chair in one 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“teacher” who sat in another room. He used an intercom to ask the learner multiple-choice ques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earner pressed one of 4 buttons to 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answer was wrong then the teacher pressed a button to administer an electric sh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lectric shocks increased in intensity for each incorrect answer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from 15 volts to 450 volts, in 15-volt incre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“experimenter” (in a lab coat) supervised the teach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learner’s screams of pain disturbed the teacher, the experimenter asked the teacher to conti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31440" y="66600"/>
            <a:ext cx="6056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real purpose of the experi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th the teacher and learner were members of the public recruited to take part in the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oles of “teacher” and “learner” appeared to be randomly ass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eacher did not realize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“random” assignment of roles was rig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earner was an actor wh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retende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receive electric sh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earner’s right and wrong answers and cries of pain were scripte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beyond a certain voltage level, the learner remained quiet, indicating that he might be unconscious or de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al experiment was to test obedience to autho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particular, when obedience meant doing something contrary to one’s con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what point would the teacher refuse to continue the experi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95200" y="66600"/>
            <a:ext cx="4908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ariations of the experi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xperiment was performed on 40 “teachers” at a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a change was made and the modified experiment was repeated on 40 new “teacher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variations of the experiment were performed,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ing men or women in the role of 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ing a mild-mannered or hard-looking actor in the role of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ing the learner complain of heart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ting the student in the same room as the 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iring the teacher to press the student’s hand onto a metal plate to give the electric sh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ting the “experimenter” into another room and enabling the teacher to contact him by tele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viding the teacher’s duties among 3 people (2 of whom were actors) and having the two actor-teachers refuse to continue the experiment at particular vol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Expectations and results of the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31840" y="66600"/>
            <a:ext cx="6851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dest expectations for the experi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nley Milgram realized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xperimenter would not have “real” authority over the 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volunteer teacher coul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 fined, imprisoned or sacked for disobe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of this, the experiment could not replicate realistic situations of authority in, for example, the 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Stanley Milgram thought his “modest” experiment would still b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xperiment might provide some insights to help him develop better experiments in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25:36Z</dcterms:modified>
  <cp:revision>1172</cp:revision>
  <dc:subject/>
  <dc:title>Influence</dc:title>
</cp:coreProperties>
</file>