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Entrepren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6E11E5B-5023-47F8-8ECD-B51BFA190E9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DDB15D39-84AD-40C7-84E0-9503AF2C2F0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ial Entrepreneu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01960" y="66600"/>
            <a:ext cx="3284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term fu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hilanthropists and talent scout organiz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willing to provide start-up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ing to provide indefinite, on-going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ans that a social enterprise project mu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way to become profita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nature of many social enterprises makes this impos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ind a different source of on-going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easy solution to the difficulty of finding on-going fun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nal chapter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to Change the World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s some issues that may help people find a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xt slide discusses one possibility (inspired by that chap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79480" y="66600"/>
            <a:ext cx="7377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future possibility for on-going fu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hypothetical future socie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ics are used to measure the benefits of social enterprise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overnment uses some tax money to fund social enterprise projects that score well against the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ight work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mall social enterprise projects spend money more effectively than larger, more bureaucratic organizations. S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 spent on, say, healthcare-related social enterprise projects may be a cost-effective way to reduce the burden on a large, inefficient national healthcar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, redirect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 from government-run projects (like healthcare) to complementary social enterprise projects c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 for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90200" y="66600"/>
            <a:ext cx="7535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ing for minority and oppressed grou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lide provides some food for though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 minority or oppressed group create its own talent scout organiz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donations from other members of the commun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people donating £10 or £100 each can result in many thousands being rai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  raised could be channelled to strategically important projec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me support groups, some “let’s change the law” campaig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ccess stories can be fed back to people who donated mone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es them that their money was well sp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s them to donate more money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eople can donate skills instead of mone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ccountancy, legal, management, web-site design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reprene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motivate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ing money is usually a lesser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 entreprene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entrepreneur who wants to create something that will greatly benefit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“talent scout” organizations help philanthropists give start-up money to the best social entrepren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finding a source of on-going funding can be a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for thou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an oppressed or minority group could set up its own internal “talent scout” 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 entreprene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 into use during the 1960s and 197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has grown in popularity, but many people are still unfamiliar wi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s the ter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cial entrepren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s some funding-related issues of concern to socia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4320" y="66600"/>
            <a:ext cx="4413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n entrepreneu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reprene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s from Fre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literal meaning is: a person who undertakes a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adays, most people think an entrepreneur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erson who starts a business to make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, many entrepreneurs start a business so they can create a new product or ser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main motivation 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e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product or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ing money from the creation is just a (useful) side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81360" y="66600"/>
            <a:ext cx="5303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social entrepreneu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 entreprene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entrepreneur who wants to create something of great benefit to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ocial entrepreneurs work on projects that have no chance of making money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phone helplines for people who are in trou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pression, victims of rape, child abuse, and so 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forms of education for people who do not have their needs met by state-funded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up kitchen to feed homeless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-based health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social entrepreneurs face a problem: they have to find funding to carry out thei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7000" y="66600"/>
            <a:ext cx="4371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philanthropis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ilanthropist is a person (or organization) who donates money to good causes (including social entreprene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assume a philanthropist wants to give up to £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ion to “good caus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ilanthropist faces a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ens of thousands of good causes b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of them are run by competent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of them use donations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ime-consuming for the philanthropist to find the “best” good causes to receive his or her do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social entrepreneurs and philanthropists find each o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52680" y="66600"/>
            <a:ext cx="2417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lent scou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lent sco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omebody who matches talented people with an organisation looking for such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cord company uses talent scouts to find talented musicians who do not have a recording con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fessional sports team uses talent scouts to find young talented sports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ome vari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job recruitment agency matches job seekers with emplo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orts agent matches a talented sportsperson with a company that wants to use such a person to promote their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 talent scout direct philanthropists to the best social entrepreneu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31840" y="66600"/>
            <a:ext cx="1407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hok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hoka (www.ashoka.org) is a talent scout organ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obtains funding from philanthrop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ives that funding to the best social entrepreneurs it can 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also provides non-financial support, such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ing with other social entrepreneurs in 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from professional accountancy and management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hoka was started in 1980 by Bill Drayt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named the organization after an ancient Indian empe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tarted with $50,000 donated by Bill Drayton and some of his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its reputation increased, it attracted donations from other philanthropists ($3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lion in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book provides a great introduction to Asho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to Change the World: Social Entrepreneurs and the Power of New Ide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by David Bor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9880" y="66600"/>
            <a:ext cx="5581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talent scout organiz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find some other talent scout organiz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Wikipedia entry for “social entrepreneurshi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using an Internet search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rganization has its own criteria for deciding which individuals or groups to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mmon selection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must aim not just to help people, but to bring about change in people’s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must aim to bring about change at a national level rather than just at a loc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cial entrepreneur has relevant skills and is willing to work for many years or decades on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criteria make projects attractive to philanthrop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8-12T16:59:13Z</dcterms:modified>
  <cp:revision>1234</cp:revision>
  <dc:subject/>
  <dc:title>Introduction</dc:title>
</cp:coreProperties>
</file>