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64338" cy="9885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840" y="6448320"/>
            <a:ext cx="4695840" cy="408240"/>
          </a:xfrm>
          <a:prstGeom prst="rect">
            <a:avLst/>
          </a:prstGeom>
          <a:noFill/>
          <a:ln w="0">
            <a:noFill/>
          </a:ln>
        </p:spPr>
        <p:txBody>
          <a:bodyPr lIns="87120" rIns="87120" tIns="42840" bIns="42840" anchor="ctr">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US"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1800" spc="-1" strike="noStrike">
                <a:solidFill>
                  <a:srgbClr val="000000"/>
                </a:solidFill>
                <a:latin typeface="Arial"/>
              </a:rPr>
              <a:t>Clusters, Families and Partners</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85BC798A-20D3-4976-B15B-450BF2DC784F}"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176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7712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BE711FF7-47DA-431A-B807-551E080F6636}"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3600" spc="-1" strike="noStrike">
                <a:solidFill>
                  <a:srgbClr val="000000"/>
                </a:solidFill>
                <a:latin typeface="Arial"/>
              </a:rPr>
              <a:t>Clusters, Families and Partners</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0" y="6094440"/>
            <a:ext cx="3071880" cy="758880"/>
          </a:xfrm>
          <a:prstGeom prst="rect">
            <a:avLst/>
          </a:prstGeom>
          <a:ln w="0">
            <a:noFill/>
          </a:ln>
        </p:spPr>
      </p:pic>
      <p:pic>
        <p:nvPicPr>
          <p:cNvPr id="84" name="4000E30Nf" descr=""/>
          <p:cNvPicPr/>
          <p:nvPr/>
        </p:nvPicPr>
        <p:blipFill>
          <a:blip r:embed="rId2"/>
          <a:stretch/>
        </p:blipFill>
        <p:spPr>
          <a:xfrm>
            <a:off x="3429000" y="2590920"/>
            <a:ext cx="2286000" cy="22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004480" y="66600"/>
            <a:ext cx="50864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Can your family be a cluster?</a:t>
            </a:r>
            <a:endParaRPr b="1" lang="en-US" sz="2800" spc="-1" strike="noStrike">
              <a:solidFill>
                <a:srgbClr val="000000"/>
              </a:solidFill>
              <a:latin typeface="Arial"/>
            </a:endParaRPr>
          </a:p>
        </p:txBody>
      </p:sp>
      <p:sp>
        <p:nvSpPr>
          <p:cNvPr id="10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previous section mentioned clusters of different siz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Very large clusters, that involve entire industri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maller clusters, such as community centres and support group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Very small clusters, such as a music ban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an your family be a supportive cluster for you?</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opefully, yes. However, your family members may not share your passionate belief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xample: you want to promote vegetarianism and campaign for animal rights, but your parents or siblings eat mea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ven if they share your beliefs, they may criticize you:</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xample: “When are you going to stop that and find a real job?”</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Jesus said “A prophet is not without honor, except in his own country, and among his own relatives, and in his own house.” </a:t>
            </a:r>
            <a:r>
              <a:rPr b="0" lang="en-GB" sz="2000" spc="-1" strike="noStrike">
                <a:solidFill>
                  <a:srgbClr val="000000"/>
                </a:solidFill>
                <a:latin typeface="Arial"/>
                <a:ea typeface="Arial"/>
              </a:rPr>
              <a:t>—</a:t>
            </a:r>
            <a:r>
              <a:rPr b="0" lang="en-GB" sz="2000" spc="-1" strike="noStrike">
                <a:solidFill>
                  <a:srgbClr val="000000"/>
                </a:solidFill>
                <a:latin typeface="Arial"/>
              </a:rPr>
              <a:t> Mark 6:4</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i="1" lang="en-GB" sz="2000" spc="-1" strike="noStrike">
                <a:solidFill>
                  <a:srgbClr val="000000"/>
                </a:solidFill>
                <a:latin typeface="Arial"/>
              </a:rPr>
              <a:t>The Lifelong Activist</a:t>
            </a:r>
            <a:r>
              <a:rPr b="0" lang="en-GB" sz="2000" spc="-1" strike="noStrike">
                <a:solidFill>
                  <a:srgbClr val="000000"/>
                </a:solidFill>
                <a:latin typeface="Arial"/>
              </a:rPr>
              <a:t> by Hillary Rettig has a good discussion of this top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41120" y="66600"/>
            <a:ext cx="3403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Your chosen family</a:t>
            </a:r>
            <a:endParaRPr b="1" lang="en-US" sz="2800" spc="-1" strike="noStrike">
              <a:solidFill>
                <a:srgbClr val="000000"/>
              </a:solidFill>
              <a:latin typeface="Arial"/>
            </a:endParaRPr>
          </a:p>
        </p:txBody>
      </p:sp>
      <p:sp>
        <p:nvSpPr>
          <p:cNvPr id="10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re is an old saying:</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You can choose your friends but you cannot choose your famil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ome people have the following experienc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ir family is not supportive or is even highly critica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y find other people who become close friends and provide suppor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y refer to these other people as their “chosen famil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 important member of your chosen family is your partn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oose a partner who is supportive of your desire to change the worl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f your partner is not supportive then conflicts might tear your relationship apa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49280" y="66600"/>
            <a:ext cx="2832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Nelson Mandela</a:t>
            </a:r>
            <a:endParaRPr b="1" lang="en-US" sz="2800" spc="-1" strike="noStrike">
              <a:solidFill>
                <a:srgbClr val="000000"/>
              </a:solidFill>
              <a:latin typeface="Arial"/>
            </a:endParaRPr>
          </a:p>
        </p:txBody>
      </p:sp>
      <p:sp>
        <p:nvSpPr>
          <p:cNvPr id="10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Nelson Mandela’s first marriage failed because his wife did not share his activism ideal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rom Chapter 24 of his autobiography, </a:t>
            </a:r>
            <a:r>
              <a:rPr b="0" i="1" lang="en-US" sz="2000" spc="-1" strike="noStrike">
                <a:solidFill>
                  <a:srgbClr val="000000"/>
                </a:solidFill>
                <a:latin typeface="Arial"/>
              </a:rPr>
              <a:t>Long Walk to Freedom</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Evelyn and I had irreconcilable differences. I could not give up my life in the struggle, and she could not live with my devotion to something other than herself and the family. […] In the end we could not make our marriage work.”</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He took care when dating Winnie (his second wife) to make sure she shared his activism ideal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rom Chapter 26 of </a:t>
            </a:r>
            <a:r>
              <a:rPr b="0" i="1" lang="en-US" sz="2000" spc="-1" strike="noStrike">
                <a:solidFill>
                  <a:srgbClr val="000000"/>
                </a:solidFill>
                <a:latin typeface="Arial"/>
              </a:rPr>
              <a:t>Long Walk to Freedom</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a:r>
            <a:r>
              <a:rPr b="0" lang="en-US" sz="2000" spc="-1" strike="noStrike">
                <a:solidFill>
                  <a:srgbClr val="000000"/>
                </a:solidFill>
                <a:latin typeface="Arial"/>
              </a:rPr>
              <a:t>She came to meetings and political discussions; I was both courting her and politicizing her. […] I told her it was more than likely that we would have to live on her small salary as a social worker. Winnie understood, and said she was prepared to take the risk and throw in her lot with 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92320" y="66600"/>
            <a:ext cx="13460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Gandhi</a:t>
            </a:r>
            <a:endParaRPr b="1" lang="en-US" sz="2800" spc="-1" strike="noStrike">
              <a:solidFill>
                <a:srgbClr val="000000"/>
              </a:solidFill>
              <a:latin typeface="Arial"/>
            </a:endParaRPr>
          </a:p>
        </p:txBody>
      </p:sp>
      <p:sp>
        <p:nvSpPr>
          <p:cNvPr id="10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ost biographies of Gandhi downplayed the role of his wif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owever, the following book shows she played a vital role:</a:t>
            </a:r>
            <a:endParaRPr b="0" lang="en-US" sz="2000" spc="-1" strike="noStrike">
              <a:solidFill>
                <a:srgbClr val="000000"/>
              </a:solidFill>
              <a:latin typeface="Arial"/>
            </a:endParaRPr>
          </a:p>
          <a:p>
            <a:pPr lvl="1" marL="600120" indent="0">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i="1" lang="en-US" sz="2000" spc="-1" strike="noStrike">
                <a:solidFill>
                  <a:srgbClr val="000000"/>
                </a:solidFill>
                <a:latin typeface="Arial"/>
              </a:rPr>
              <a:t>	</a:t>
            </a:r>
            <a:r>
              <a:rPr b="0" i="1" lang="en-US" sz="2000" spc="-1" strike="noStrike">
                <a:solidFill>
                  <a:srgbClr val="000000"/>
                </a:solidFill>
                <a:latin typeface="Arial"/>
              </a:rPr>
              <a:t>The Untold Story Kasturba: Wife of Mahatma Gandhi </a:t>
            </a:r>
            <a:r>
              <a:rPr b="0" lang="en-US" sz="2000" spc="-1" strike="noStrike">
                <a:solidFill>
                  <a:srgbClr val="000000"/>
                </a:solidFill>
                <a:latin typeface="Arial"/>
              </a:rPr>
              <a:t>by Arun and Sundana Gandhi with Carol Lynn Yelli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xample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andhi first learned the effectiveness of peaceful non-cooperation from his wife when he was treating her unreasonably</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ften Kasturba could communicate her husband’s ideas to women better than he coul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Gandhi married Kasturba before either one became activis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andhi’s activism bloomed before Kasturba’s di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created some conflicts in their relationshi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uckily, Kasturba slowly came to share her husband’s idealis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ver time, she became a well-known activist leader in her own r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74400" y="66600"/>
            <a:ext cx="6568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Other people with supportive partners</a:t>
            </a:r>
            <a:endParaRPr b="1" lang="en-US" sz="2800" spc="-1" strike="noStrike">
              <a:solidFill>
                <a:srgbClr val="000000"/>
              </a:solidFill>
              <a:latin typeface="Arial"/>
            </a:endParaRPr>
          </a:p>
        </p:txBody>
      </p:sp>
      <p:sp>
        <p:nvSpPr>
          <p:cNvPr id="11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artin Luther King J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earned of his future wife’s activism on their first dat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he encouraged him to continue fighting racism, despite frequent death threats and assassination attempt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alcolm X and his future wife were both in the Nation of Islam:</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religion encouraged black people to oppose racis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lcolm X was a public (and controversial) figure in the Nation of Isla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is future wife knew of the risks that Malcolm X fac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1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3. Summ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82800" y="66600"/>
            <a:ext cx="17413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1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Having the right kind of support for your work increases your chance of succes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Look for groups or organizations that can provide such suppor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f none exist then perhaps you could start on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Your biological family may or may not be supportiv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f not then develop a chosen famil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When looking for a long-term partner, choose someone who is suppor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icense</a:t>
            </a:r>
            <a:endParaRPr b="1" lang="en-US" sz="2800" spc="-1" strike="noStrike">
              <a:solidFill>
                <a:srgbClr val="000000"/>
              </a:solidFill>
              <a:latin typeface="Arial"/>
            </a:endParaRPr>
          </a:p>
        </p:txBody>
      </p:sp>
      <p:sp>
        <p:nvSpPr>
          <p:cNvPr id="8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 2009 Ciaran McHal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Permission is hereby granted, free of charge, to any person obtaining a copy of thi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raining course and associated documentation files (the “Training Course"), to deal in</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without restriction, including without limitation the rights to u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 modify, merge, publish, distribute, sublicense, and/or sell copies of the Training</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urse, and to permit persons to whom the Training Course is furnished to do so,</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subject to the following condition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above copyright notice and this permission notice shall be included in all copie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substantial portions of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IS PROVIDED "AS IS", WITHOUT WARRANTY OF ANY</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KIND, EXPRESS OR IMPLIED, INCLUDING BUT NOT LIMITED TO TH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WARRANTIES OF MERCHANTABILITY, FITNESS FOR A PARTICULAR PURPO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ND NONINFRINGEMENT. IN NO EVENT SHALL THE AUTHORS O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HOLDERS BE LIABLE FOR ANY CLAIM, DAMAGES OR OTHE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LIABILITY, WHETHER IN AN ACTION OF CONTRACT, TORT OR OTHERWI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RISING FROM, OUT OF OR IN CONNECTION WITH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THE USE OR OTHER DEALINGS IN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globe logo is from www.mapAbility.com. Used with permi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441240" y="66600"/>
            <a:ext cx="2197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ntroduction</a:t>
            </a:r>
            <a:endParaRPr b="1" lang="en-US" sz="2800" spc="-1" strike="noStrike">
              <a:solidFill>
                <a:srgbClr val="000000"/>
              </a:solidFill>
              <a:latin typeface="Arial"/>
            </a:endParaRPr>
          </a:p>
        </p:txBody>
      </p:sp>
      <p:sp>
        <p:nvSpPr>
          <p:cNvPr id="8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No person is completely independen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We all interact with othe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ometimes the interactions are goo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ther times they are neutral or negativ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Occasionally, interactions are so good that people speak of </a:t>
            </a:r>
            <a:r>
              <a:rPr b="0" i="1" lang="en-US" sz="2400" spc="-1" strike="noStrike">
                <a:solidFill>
                  <a:srgbClr val="000000"/>
                </a:solidFill>
                <a:latin typeface="Arial"/>
              </a:rPr>
              <a:t>synergy</a:t>
            </a:r>
            <a:r>
              <a:rPr b="0" lang="en-US" sz="2400" spc="-1" strike="noStrike">
                <a:solidFill>
                  <a:srgbClr val="000000"/>
                </a:solidFill>
                <a:latin typeface="Arial"/>
              </a:rPr>
              <a: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ynergy means the whole is greater than the sum of its par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ncreasing the synergy in your life can help you to change the world</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ometimes synergy occurs through group interact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chapter discusses different forms of group interaction that might result in synerg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9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1. Clus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20680" y="66600"/>
            <a:ext cx="1546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Clusters</a:t>
            </a:r>
            <a:endParaRPr b="1" lang="en-US" sz="2800" spc="-1" strike="noStrike">
              <a:solidFill>
                <a:srgbClr val="000000"/>
              </a:solidFill>
              <a:latin typeface="Arial"/>
            </a:endParaRPr>
          </a:p>
        </p:txBody>
      </p:sp>
      <p:sp>
        <p:nvSpPr>
          <p:cNvPr id="9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Often, people doing similar types of work cluster togeth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n this way, they can inspire each oth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any people whose work is solitary (such as writers or painters) like to socialize with people who do similar work</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Inklings was an informal group of literary enthusiasts in Oxford, England during the 1930s and 1940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group included:</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J. R. R. Tolkien (author of </a:t>
            </a:r>
            <a:r>
              <a:rPr b="0" i="1" lang="en-GB" sz="2000" spc="-1" strike="noStrike">
                <a:solidFill>
                  <a:srgbClr val="000000"/>
                </a:solidFill>
                <a:latin typeface="Arial"/>
              </a:rPr>
              <a:t>The Lord of the Rings </a:t>
            </a:r>
            <a:r>
              <a:rPr b="0" lang="en-GB" sz="2000" spc="-1" strike="noStrike">
                <a:solidFill>
                  <a:srgbClr val="000000"/>
                </a:solidFill>
                <a:latin typeface="Arial"/>
              </a:rPr>
              <a:t>serie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 S. Lewis (author of </a:t>
            </a:r>
            <a:r>
              <a:rPr b="0" i="1" lang="en-GB" sz="2000" spc="-1" strike="noStrike">
                <a:solidFill>
                  <a:srgbClr val="000000"/>
                </a:solidFill>
                <a:latin typeface="Arial"/>
              </a:rPr>
              <a:t>The Chronicles of Narnia </a:t>
            </a:r>
            <a:r>
              <a:rPr b="0" lang="en-GB" sz="2000" spc="-1" strike="noStrike">
                <a:solidFill>
                  <a:srgbClr val="000000"/>
                </a:solidFill>
                <a:latin typeface="Arial"/>
              </a:rPr>
              <a:t>seri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embers critiqued each others’ draft work</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y also had fun, such as competitions to read bad poetry without laughing</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roughout history, there have been other clusters of famous writers and arti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199960" y="66600"/>
            <a:ext cx="46926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Other examples of clusters</a:t>
            </a:r>
            <a:endParaRPr b="1" lang="en-US" sz="2800" spc="-1" strike="noStrike">
              <a:solidFill>
                <a:srgbClr val="000000"/>
              </a:solidFill>
              <a:latin typeface="Arial"/>
            </a:endParaRPr>
          </a:p>
        </p:txBody>
      </p:sp>
      <p:sp>
        <p:nvSpPr>
          <p:cNvPr id="9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ndividual musicians join together to form a band:</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Partly so the musicians can inspire each oth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 support group can act as a clust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n Internet search for “support group” shows many groups for medical conditions, handicaps, victims of crime, bereavemen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 community centre or conference can act as a clust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specially for people who share a particular interest or trai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xample traits: sexuality, ethnic origin, relig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idge Ure is a musician (most famously in Ultravox):</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e co-wrote </a:t>
            </a:r>
            <a:r>
              <a:rPr b="0" i="1" lang="en-GB" sz="2000" spc="-1" strike="noStrike">
                <a:solidFill>
                  <a:srgbClr val="000000"/>
                </a:solidFill>
                <a:latin typeface="Arial"/>
              </a:rPr>
              <a:t>Do They Know It’s Christmas </a:t>
            </a:r>
            <a:r>
              <a:rPr b="0" lang="en-GB" sz="2000" spc="-1" strike="noStrike">
                <a:solidFill>
                  <a:srgbClr val="000000"/>
                </a:solidFill>
                <a:latin typeface="Arial"/>
              </a:rPr>
              <a:t>(the Band Aid song)</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His autobiography is called </a:t>
            </a:r>
            <a:r>
              <a:rPr b="0" i="1" lang="en-GB" sz="2000" spc="-1" strike="noStrike">
                <a:solidFill>
                  <a:srgbClr val="000000"/>
                </a:solidFill>
                <a:latin typeface="Arial"/>
              </a:rPr>
              <a:t>If I was…</a:t>
            </a:r>
            <a:r>
              <a:rPr b="0" lang="en-GB"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pter 6 (“Life in the Blitz”) talks about a London music club that acted as a cluster for many soon-to-be-famous English singers and ban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622160" y="66600"/>
            <a:ext cx="5879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Other examples of clusters (cont’)</a:t>
            </a:r>
            <a:endParaRPr b="1" lang="en-US" sz="2800" spc="-1" strike="noStrike">
              <a:solidFill>
                <a:srgbClr val="000000"/>
              </a:solidFill>
              <a:latin typeface="Arial"/>
            </a:endParaRPr>
          </a:p>
        </p:txBody>
      </p:sp>
      <p:sp>
        <p:nvSpPr>
          <p:cNvPr id="9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Regular attendees at the Blitz included:</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idge Ure and Steve Strange from Visage, David Essex,</a:t>
            </a:r>
            <a:br>
              <a:rPr sz="2000"/>
            </a:br>
            <a:r>
              <a:rPr b="0" lang="en-GB" sz="2000" spc="-1" strike="noStrike">
                <a:solidFill>
                  <a:srgbClr val="000000"/>
                </a:solidFill>
                <a:latin typeface="Arial"/>
              </a:rPr>
              <a:t>Boy George, Spandau Ballet, Depeche Mod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lso soon-to-be famous make-up artists, stylists, photographers,</a:t>
            </a:r>
            <a:br>
              <a:rPr sz="2000"/>
            </a:br>
            <a:r>
              <a:rPr b="0" lang="en-GB" sz="2000" spc="-1" strike="noStrike">
                <a:solidFill>
                  <a:srgbClr val="000000"/>
                </a:solidFill>
                <a:latin typeface="Arial"/>
              </a:rPr>
              <a:t>video directors, fashion designers and hat maker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idge Ure stat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It was the inspiration, the place that spawned London’s next ten year’s worth of creativity, maybe its next twent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Derek May, a DJ at the Warehouse in Chicago, picked up on the electronic sounds that were invented at the Blitz, developed them and turned it into his own form of dance grooves, which later became known as house music.”</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is example shows how much influence a single cluster can ha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611080" y="66600"/>
            <a:ext cx="3940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Importance of clusters</a:t>
            </a:r>
            <a:endParaRPr b="1" lang="en-US" sz="2800" spc="-1" strike="noStrike">
              <a:solidFill>
                <a:srgbClr val="000000"/>
              </a:solidFill>
              <a:latin typeface="Arial"/>
            </a:endParaRPr>
          </a:p>
        </p:txBody>
      </p:sp>
      <p:sp>
        <p:nvSpPr>
          <p:cNvPr id="9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ntire industries tend to clust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 lot of movie making is clustered in Hollywoo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any Formula-1 cars are made in the south of Englan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usical theatre has clusters in London’s West End and</a:t>
            </a:r>
            <a:br>
              <a:rPr sz="2000"/>
            </a:br>
            <a:r>
              <a:rPr b="0" lang="en-GB" sz="2000" spc="-1" strike="noStrike">
                <a:solidFill>
                  <a:srgbClr val="000000"/>
                </a:solidFill>
                <a:latin typeface="Arial"/>
              </a:rPr>
              <a:t>New York’s Broadwa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US computer industry has clusters in Silicon Valley and Bost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re are clusters for fashion design, architecture and ar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he point of this section is thi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lusters pay an important role in societ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Joining an existing cluster may help you change the worl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If there isn’t already a cluster relevant to your work then perhaps you should create 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0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2. Families and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Ciaran McHale</dc:creator>
  <dc:description/>
  <dc:language>en-US</dc:language>
  <cp:lastModifiedBy>Ciaran McHale</cp:lastModifiedBy>
  <cp:lastPrinted>2002-08-30T21:11:41Z</cp:lastPrinted>
  <dcterms:modified xsi:type="dcterms:W3CDTF">2009-07-08T22:13:53Z</dcterms:modified>
  <cp:revision>1125</cp:revision>
  <dc:subject/>
  <dc:title>Clusters, Families and Partners</dc:title>
</cp:coreProperties>
</file>