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atus Quo is Fla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1037023E-5C87-47EE-9A3D-74649BD60FE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06696AC2-0D0E-4B0E-896F-9FE7C1CCBB0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Status Quo is Flaw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6280" y="66600"/>
            <a:ext cx="7443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gative reactions to proposals for 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’s assume you propose a way to improve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possible negative reactions from 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at was a good idea then somebody else would have thought of it alread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ion: “Your proposal is obviously flawe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urrent system was designed by experts. Apparently, you think you know better than the exper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ion: “You are arrogant to think you can make a contribu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h reactions suggest that the world is 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920" y="66600"/>
            <a:ext cx="6586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ays in which the world is not perf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countless ways in which the world is imperfec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a global sc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rs, famine, global wa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in your own count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rupt politicians, unethical business practices, pollution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taxes, high unemployment, poor health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probably think of imperfe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in your local town or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in the industry in which you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in families (mom and dad keep arguing, your brother just split up with his girlfriend, your sister got fired, your son is failing subjects in scho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17760" y="66600"/>
            <a:ext cx="4255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status quo is flaw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erfections ar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verywhe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In big things and small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strange that people react negatively when you 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atus quo is flawed. I think I can improve i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ility 1: Some 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lise the status quo is imperfect but do not have energy to try to improv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eel guilty about doing no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iticize you to hide their guilty feel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ility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iggest flaw in the world is that many people passively accept imperfections, rather than attempt to improve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eople think this flaw is part of human 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thers think it is a result of social condi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55840" y="66600"/>
            <a:ext cx="6256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vice for want-to-be entrepreneu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dream of starting their own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don’t because they cannot think of a product to make or s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a simple way to think of busines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, realiz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atus quo is flawed” means “there are lots of problem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ever there is a problem, there is an opportunit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you can find opportunities by analysing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o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t into the daily habit of analysing things you think are irritating, flawed or proble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think of an improvement or a better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ld you build a business around this improvement or better alterna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46240" y="66600"/>
            <a:ext cx="50054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invention of Velcr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1941, George de Mestral noticed something sticking to his clothes and his dog’s fu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as the burrs (prickly seeds) of burd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examined a burr under a microsco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saw the burr had lots of h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were catching on anything with loops, such as fur or clo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people would see only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roble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bur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stick easily and are difficult to re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orge de Mestral saw a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pportuni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sult was Velcro (the hook and loop fasten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09200" y="66600"/>
            <a:ext cx="7697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innovations in sports water bott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: glass bottles can break eas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lution: make bottles from p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: awkward to unscrew bottle cap when exerc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lution: a pull-up top that can be opened and closed with tee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: bottles are difficult to grip when ru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lution: make bottles with a gripping h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interesting book on turning problems int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portunities is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y Not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by Barry Nalebuff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Ian Ay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934320" y="2733840"/>
            <a:ext cx="1891800" cy="3590640"/>
            <a:chOff x="6934320" y="2733840"/>
            <a:chExt cx="1891800" cy="3590640"/>
          </a:xfrm>
        </p:grpSpPr>
        <p:grpSp>
          <p:nvGrpSpPr>
            <p:cNvPr id="100" name=""/>
            <p:cNvGrpSpPr/>
            <p:nvPr/>
          </p:nvGrpSpPr>
          <p:grpSpPr>
            <a:xfrm>
              <a:off x="7630920" y="2733840"/>
              <a:ext cx="482400" cy="142920"/>
              <a:chOff x="7630920" y="2733840"/>
              <a:chExt cx="482400" cy="142920"/>
            </a:xfrm>
          </p:grpSpPr>
          <p:sp>
            <p:nvSpPr>
              <p:cNvPr id="101" name=""/>
              <p:cNvSpPr/>
              <p:nvPr/>
            </p:nvSpPr>
            <p:spPr>
              <a:xfrm>
                <a:off x="7661160" y="2733840"/>
                <a:ext cx="424080" cy="88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0920" y="2791080"/>
                <a:ext cx="482400" cy="85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7564320" y="3009960"/>
              <a:ext cx="609120" cy="142920"/>
              <a:chOff x="7564320" y="3009960"/>
              <a:chExt cx="609120" cy="142920"/>
            </a:xfrm>
          </p:grpSpPr>
          <p:sp>
            <p:nvSpPr>
              <p:cNvPr id="104" name=""/>
              <p:cNvSpPr/>
              <p:nvPr/>
            </p:nvSpPr>
            <p:spPr>
              <a:xfrm>
                <a:off x="7602480" y="3009960"/>
                <a:ext cx="535320" cy="88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564320" y="3067200"/>
                <a:ext cx="609120" cy="85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7502400" y="4057560"/>
              <a:ext cx="761760" cy="1676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54800" y="6296040"/>
              <a:ext cx="1047240" cy="28440"/>
            </a:xfrm>
            <a:custGeom>
              <a:avLst/>
              <a:gdLst/>
              <a:ahLst/>
              <a:rect l="l" t="t" r="r" b="b"/>
              <a:pathLst>
                <a:path w="660" h="18">
                  <a:moveTo>
                    <a:pt x="0" y="0"/>
                  </a:moveTo>
                  <a:cubicBezTo>
                    <a:pt x="10" y="2"/>
                    <a:pt x="20" y="4"/>
                    <a:pt x="33" y="6"/>
                  </a:cubicBezTo>
                  <a:cubicBezTo>
                    <a:pt x="46" y="8"/>
                    <a:pt x="61" y="11"/>
                    <a:pt x="78" y="12"/>
                  </a:cubicBezTo>
                  <a:cubicBezTo>
                    <a:pt x="95" y="13"/>
                    <a:pt x="110" y="14"/>
                    <a:pt x="138" y="15"/>
                  </a:cubicBezTo>
                  <a:cubicBezTo>
                    <a:pt x="166" y="16"/>
                    <a:pt x="213" y="18"/>
                    <a:pt x="246" y="18"/>
                  </a:cubicBezTo>
                  <a:cubicBezTo>
                    <a:pt x="279" y="18"/>
                    <a:pt x="305" y="18"/>
                    <a:pt x="339" y="18"/>
                  </a:cubicBezTo>
                  <a:cubicBezTo>
                    <a:pt x="373" y="18"/>
                    <a:pt x="422" y="18"/>
                    <a:pt x="453" y="18"/>
                  </a:cubicBezTo>
                  <a:cubicBezTo>
                    <a:pt x="484" y="18"/>
                    <a:pt x="502" y="16"/>
                    <a:pt x="525" y="15"/>
                  </a:cubicBezTo>
                  <a:cubicBezTo>
                    <a:pt x="548" y="14"/>
                    <a:pt x="572" y="11"/>
                    <a:pt x="594" y="9"/>
                  </a:cubicBezTo>
                  <a:cubicBezTo>
                    <a:pt x="616" y="7"/>
                    <a:pt x="638" y="5"/>
                    <a:pt x="660" y="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7459560" y="3290760"/>
              <a:ext cx="828360" cy="142920"/>
              <a:chOff x="7459560" y="3290760"/>
              <a:chExt cx="828360" cy="142920"/>
            </a:xfrm>
          </p:grpSpPr>
          <p:sp>
            <p:nvSpPr>
              <p:cNvPr id="109" name=""/>
              <p:cNvSpPr/>
              <p:nvPr/>
            </p:nvSpPr>
            <p:spPr>
              <a:xfrm>
                <a:off x="7511400" y="3290760"/>
                <a:ext cx="728280" cy="88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459560" y="3348000"/>
                <a:ext cx="828360" cy="85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934320" y="3333960"/>
              <a:ext cx="1891800" cy="2966760"/>
              <a:chOff x="6934320" y="3333960"/>
              <a:chExt cx="1891800" cy="2966760"/>
            </a:xfrm>
          </p:grpSpPr>
          <p:sp>
            <p:nvSpPr>
              <p:cNvPr id="112" name=""/>
              <p:cNvSpPr/>
              <p:nvPr/>
            </p:nvSpPr>
            <p:spPr>
              <a:xfrm>
                <a:off x="6934320" y="3333960"/>
                <a:ext cx="582480" cy="2962080"/>
              </a:xfrm>
              <a:custGeom>
                <a:avLst/>
                <a:gdLst/>
                <a:ahLst/>
                <a:rect l="l" t="t" r="r" b="b"/>
                <a:pathLst>
                  <a:path w="367" h="1866">
                    <a:moveTo>
                      <a:pt x="367" y="0"/>
                    </a:moveTo>
                    <a:cubicBezTo>
                      <a:pt x="335" y="29"/>
                      <a:pt x="304" y="59"/>
                      <a:pt x="277" y="90"/>
                    </a:cubicBezTo>
                    <a:cubicBezTo>
                      <a:pt x="250" y="121"/>
                      <a:pt x="224" y="153"/>
                      <a:pt x="202" y="186"/>
                    </a:cubicBezTo>
                    <a:cubicBezTo>
                      <a:pt x="180" y="219"/>
                      <a:pt x="164" y="248"/>
                      <a:pt x="145" y="288"/>
                    </a:cubicBezTo>
                    <a:cubicBezTo>
                      <a:pt x="126" y="328"/>
                      <a:pt x="102" y="378"/>
                      <a:pt x="85" y="423"/>
                    </a:cubicBezTo>
                    <a:cubicBezTo>
                      <a:pt x="68" y="468"/>
                      <a:pt x="57" y="510"/>
                      <a:pt x="46" y="561"/>
                    </a:cubicBezTo>
                    <a:cubicBezTo>
                      <a:pt x="35" y="612"/>
                      <a:pt x="22" y="685"/>
                      <a:pt x="16" y="732"/>
                    </a:cubicBezTo>
                    <a:cubicBezTo>
                      <a:pt x="10" y="779"/>
                      <a:pt x="9" y="796"/>
                      <a:pt x="7" y="843"/>
                    </a:cubicBezTo>
                    <a:cubicBezTo>
                      <a:pt x="5" y="890"/>
                      <a:pt x="2" y="966"/>
                      <a:pt x="1" y="1017"/>
                    </a:cubicBezTo>
                    <a:cubicBezTo>
                      <a:pt x="0" y="1068"/>
                      <a:pt x="0" y="1105"/>
                      <a:pt x="4" y="1149"/>
                    </a:cubicBezTo>
                    <a:cubicBezTo>
                      <a:pt x="8" y="1193"/>
                      <a:pt x="17" y="1237"/>
                      <a:pt x="25" y="1281"/>
                    </a:cubicBezTo>
                    <a:cubicBezTo>
                      <a:pt x="33" y="1325"/>
                      <a:pt x="43" y="1376"/>
                      <a:pt x="52" y="1416"/>
                    </a:cubicBezTo>
                    <a:cubicBezTo>
                      <a:pt x="61" y="1456"/>
                      <a:pt x="70" y="1484"/>
                      <a:pt x="82" y="1521"/>
                    </a:cubicBezTo>
                    <a:cubicBezTo>
                      <a:pt x="94" y="1558"/>
                      <a:pt x="110" y="1600"/>
                      <a:pt x="127" y="1638"/>
                    </a:cubicBezTo>
                    <a:cubicBezTo>
                      <a:pt x="144" y="1676"/>
                      <a:pt x="166" y="1718"/>
                      <a:pt x="184" y="1749"/>
                    </a:cubicBezTo>
                    <a:cubicBezTo>
                      <a:pt x="202" y="1780"/>
                      <a:pt x="222" y="1808"/>
                      <a:pt x="235" y="1827"/>
                    </a:cubicBezTo>
                    <a:cubicBezTo>
                      <a:pt x="248" y="1846"/>
                      <a:pt x="256" y="1856"/>
                      <a:pt x="265" y="1866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8243640" y="3338640"/>
                <a:ext cx="582480" cy="2962080"/>
              </a:xfrm>
              <a:custGeom>
                <a:avLst/>
                <a:gdLst/>
                <a:ahLst/>
                <a:rect l="l" t="t" r="r" b="b"/>
                <a:pathLst>
                  <a:path w="367" h="1866">
                    <a:moveTo>
                      <a:pt x="367" y="0"/>
                    </a:moveTo>
                    <a:cubicBezTo>
                      <a:pt x="335" y="29"/>
                      <a:pt x="304" y="59"/>
                      <a:pt x="277" y="90"/>
                    </a:cubicBezTo>
                    <a:cubicBezTo>
                      <a:pt x="250" y="121"/>
                      <a:pt x="224" y="153"/>
                      <a:pt x="202" y="186"/>
                    </a:cubicBezTo>
                    <a:cubicBezTo>
                      <a:pt x="180" y="219"/>
                      <a:pt x="164" y="248"/>
                      <a:pt x="145" y="288"/>
                    </a:cubicBezTo>
                    <a:cubicBezTo>
                      <a:pt x="126" y="328"/>
                      <a:pt x="102" y="378"/>
                      <a:pt x="85" y="423"/>
                    </a:cubicBezTo>
                    <a:cubicBezTo>
                      <a:pt x="68" y="468"/>
                      <a:pt x="57" y="510"/>
                      <a:pt x="46" y="561"/>
                    </a:cubicBezTo>
                    <a:cubicBezTo>
                      <a:pt x="35" y="612"/>
                      <a:pt x="22" y="685"/>
                      <a:pt x="16" y="732"/>
                    </a:cubicBezTo>
                    <a:cubicBezTo>
                      <a:pt x="10" y="779"/>
                      <a:pt x="9" y="796"/>
                      <a:pt x="7" y="843"/>
                    </a:cubicBezTo>
                    <a:cubicBezTo>
                      <a:pt x="5" y="890"/>
                      <a:pt x="2" y="966"/>
                      <a:pt x="1" y="1017"/>
                    </a:cubicBezTo>
                    <a:cubicBezTo>
                      <a:pt x="0" y="1068"/>
                      <a:pt x="0" y="1105"/>
                      <a:pt x="4" y="1149"/>
                    </a:cubicBezTo>
                    <a:cubicBezTo>
                      <a:pt x="8" y="1193"/>
                      <a:pt x="17" y="1237"/>
                      <a:pt x="25" y="1281"/>
                    </a:cubicBezTo>
                    <a:cubicBezTo>
                      <a:pt x="33" y="1325"/>
                      <a:pt x="43" y="1376"/>
                      <a:pt x="52" y="1416"/>
                    </a:cubicBezTo>
                    <a:cubicBezTo>
                      <a:pt x="61" y="1456"/>
                      <a:pt x="70" y="1484"/>
                      <a:pt x="82" y="1521"/>
                    </a:cubicBezTo>
                    <a:cubicBezTo>
                      <a:pt x="94" y="1558"/>
                      <a:pt x="110" y="1600"/>
                      <a:pt x="127" y="1638"/>
                    </a:cubicBezTo>
                    <a:cubicBezTo>
                      <a:pt x="144" y="1676"/>
                      <a:pt x="166" y="1718"/>
                      <a:pt x="184" y="1749"/>
                    </a:cubicBezTo>
                    <a:cubicBezTo>
                      <a:pt x="202" y="1780"/>
                      <a:pt x="222" y="1808"/>
                      <a:pt x="235" y="1827"/>
                    </a:cubicBezTo>
                    <a:cubicBezTo>
                      <a:pt x="248" y="1846"/>
                      <a:pt x="256" y="1856"/>
                      <a:pt x="265" y="1866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7464240" y="3071880"/>
              <a:ext cx="828360" cy="142920"/>
              <a:chOff x="7464240" y="3071880"/>
              <a:chExt cx="828360" cy="142920"/>
            </a:xfrm>
          </p:grpSpPr>
          <p:sp>
            <p:nvSpPr>
              <p:cNvPr id="115" name=""/>
              <p:cNvSpPr/>
              <p:nvPr/>
            </p:nvSpPr>
            <p:spPr>
              <a:xfrm>
                <a:off x="7516080" y="3071880"/>
                <a:ext cx="728280" cy="88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464240" y="3129120"/>
                <a:ext cx="828360" cy="85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7516800" y="311940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45440" y="311940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00680" y="305748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137440" y="305136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7656480" y="2762280"/>
              <a:ext cx="432720" cy="142920"/>
              <a:chOff x="7656480" y="2762280"/>
              <a:chExt cx="432720" cy="142920"/>
            </a:xfrm>
          </p:grpSpPr>
          <p:sp>
            <p:nvSpPr>
              <p:cNvPr id="122" name=""/>
              <p:cNvSpPr/>
              <p:nvPr/>
            </p:nvSpPr>
            <p:spPr>
              <a:xfrm>
                <a:off x="7683480" y="2762280"/>
                <a:ext cx="380520" cy="88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656480" y="2819520"/>
                <a:ext cx="432720" cy="85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7661160" y="2782800"/>
              <a:ext cx="1692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8067600" y="2784600"/>
              <a:ext cx="1872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83480" y="2805120"/>
              <a:ext cx="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61120" y="2801880"/>
              <a:ext cx="0" cy="21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5715000" y="3276720"/>
            <a:ext cx="1371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9720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atus quo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aw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is nothing wrong with wanting to improve upon the status qu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gnore people who accuse you of being foolish or arrogant for trying to make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ember: “Whenever there is a problem, there is an opportuni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evant qu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asonable man adapts himself to the world; the unreasonable one persists in trying to adapt the world to himself. Therefore, all progress depends on the unreasonable man.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rge Bernard Sh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rn to take the following as compli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being unreasonab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are arrogant to think you can improve upon the status qu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6-30T12:56:19Z</dcterms:modified>
  <cp:revision>1131</cp:revision>
  <dc:subject/>
  <dc:title>The Status Quo is Flawed</dc:title>
</cp:coreProperties>
</file>