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Kinds of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90E55C01-A94F-464D-A662-D4A2751B344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CD639440-2BD9-493D-95DC-0044987F764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wo Kinds of Pow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7640" y="66600"/>
            <a:ext cx="7062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s of power to help peopl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 Howard Griffin was a white author in Amer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1959, he darkened his skin so he appeared to be 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lived as a black man for 4 weeks and then wrote of his exper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way, he helped to expose the extent of racism in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ck-rights activists, like Martin Luther King and Malcolm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hammad Yunus was an economics profess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aw people in Bangladesh starving to death because of pov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1977 he started with $27, giving microcredit (small loans) to help people work their way out of pov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microcredit system has spread to over 50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and his Grameen Bank won the Nobel Peace Prize in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87640" y="66600"/>
            <a:ext cx="3106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common the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ight be able to think of many more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common theme in the examples on the previous slid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ose peop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r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ing others th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mous and di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“pow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y used “pow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hel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, they became famou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cause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s quite different to thinking that they were able to do the work because they were already fa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ing famous w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motivation for wanting to help oth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faced hardship because of their desire to help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faced death threats, and some were assass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24040" y="66600"/>
            <a:ext cx="3841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kelihood of suc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amples show that “power to help people”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just because i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, does not mean it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ikel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haps the examples are exceptions rather than the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probably know individuals who like to help others 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not fa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not effective (they have an insignificant impact on the wor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can you do to make “power to help people”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ffective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Making “power to help people”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0" y="66600"/>
            <a:ext cx="1170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should focus your work on jus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two reasons for th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’s better to make a large impact on one issue than smaller impacts on sever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tter for the world, and better for your mo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prefer specialists over genera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newspaper has printed lies that damage your re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ant to sue the newspaper for li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you hire a lawyer who does many types of cases (divorce, accident compensation, making wills, contracts, copyright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do you hire a lawyer who specializes in lib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are more likely to help you if you specialize your efforts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54440" y="66600"/>
            <a:ext cx="1563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tru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ltruis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an unselfish concern for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, acts of altruism are beneficial for others, but harmful to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oup altruism is rare but can be very effective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ights activists tell oppressed people “You have to stand up to your oppressor. You might be killed or imprisoned but it will give freedom to future generation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dhi, Martin Luther King, Malcolm X succeeded with that tac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n earthquake or storm puts many people at risk, the populations of other countries often donate millions to provide 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ns of thousands of programmers around the world write free or open-sourc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ns of thousands of people contribute to Wikipedia (an online encyclopaed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4040" y="66600"/>
            <a:ext cx="2751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ruism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ari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altruism is rare but can be very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altruism is more common, but less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, a person who changes the world does so by creating group altru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gnifies the effect that the person 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person’s “power to help people” becomes a large group’s “power to help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are more likely to follow your altruistic lead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ee you are dedicated to the issue (hence the need to foc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are willing to suffer as much as them in being altru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01760" y="66600"/>
            <a:ext cx="4708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Richard Stallm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irst few decades of computers, hardware was sold, 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often distributed free of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both binary (ready-to-run) and source code (recipe)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users modified source code to fix bugs or add new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ay, Richard Stallm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 a bug in some software to control a pr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asked for the source code so he could fix the 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nufacturer refused to give him the sourc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thought this was unacceptable and, in fact, immo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on, he started noticing other similar cases of users being denied what he felt was a legitimate right to access sourc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84360" y="66600"/>
            <a:ext cx="5896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Richard Stallma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ve to proprietary software acceler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did not have pow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could not force companies to provide source code of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he eventually realized he had pow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hel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sked myself: what could I, an operating-system developer, do to improve the situation? It wasn’t until I examined the question for a while that I realized that an operating-system developer was exactly what was needed to solve the proble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decided he would write an entir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called it GNU (a recursive pun for “GNU is not UNIX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all of it non-proprietary, provide everyone with sourc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willing to dedicate his entire life to this (foc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84360" y="66600"/>
            <a:ext cx="5896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Richard Stallma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publicly asked others to join hi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request was initially met with optimism but disbel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munity reaction was pretty much uniform. People said, ‘Oh, that’s a great idea. Show us your code. Show us it can be done.’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ch Mor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 months later he released the first piece of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as GNU Emacs (a powerful text edito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could see he was dedicated, and acting altruis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rs to help him increased grea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82720" y="66600"/>
            <a:ext cx="3719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Bob Geldo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 Geldof enjoyed success with The Boomtown R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by 1984, they were no longer pop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ate 1984, Bob Geldof saw a news report about fa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ould I do? I could send some money. […] But that didn’t seem enough. […] What else could I do? I was only a pop singer. And by now not a very successful pop singer. […] All I could do was make records that no one bough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decided to make a record and donate the profits to cha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cord would not sell well if it was recorded by The Boomtown R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he asked other, more popular singers, to join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surprised that so many agreed so read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13 (“Driven to Tears”) of his autobiography discusses how many others also agreed to give time, forego profits and incurred great personal expense to help with this charity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8928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ople” can be used to change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you probably won’t become powerful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to use “pow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hel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everybody has this power, but most don’t use it m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ome famous examples of this type of power being used eff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ons for making “power to help people” eff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one issue rather than spread your energy on many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ways to make a large group of people act in an altruistic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hapters in this training course discuss related skills and insights that will help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05000" y="66600"/>
            <a:ext cx="2873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vant quo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poleon Bonaparte (176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1821), French general, emp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 persons who speak make more noise than ten thousand who are silen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garet Mead (19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8), American cultural anthrop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doubt that a small group of thoughtful, committed citizens can change the world. In fact, it’s the only thing that ever ha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41240" y="66600"/>
            <a:ext cx="2197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need power to change the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, not necessarily the kind of power that most people think you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discusses two different kinds of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explains which one is more likely to help you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Power ov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01960" y="66600"/>
            <a:ext cx="3284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wer over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eople think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ow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being “power ove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bility to get people to do what you want through money, authority, threats o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might think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I could significantly change the world if I were…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rich, for example, a bill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esident or prime minister of a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wner and manager of a large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fortunate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are unlikely to be any of those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are unlikely to be successful if you plead with such peop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I think you should use your money or power to 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280" y="66600"/>
            <a:ext cx="8248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tting “power over people” is not a viable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plan to change the world shoul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get lots of power over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use that power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? Because the first part of the plan is unlikely to succ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noth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nd of power that it much easier to obt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at other kind of power has a proven track record for being able to change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Power to help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0000" y="66600"/>
            <a:ext cx="3699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wer to help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people think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ow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being “powe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bility to get people to do what you want through money, authority, threats o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ow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also be “powe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help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most everybody has this kind of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people do not use this kind of power as much as they cou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 examining this kind of power, let’s look at examples of its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36200" y="66600"/>
            <a:ext cx="5875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s of power to help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 there was a vaccine to prevent polio, Sister Kenny developed a cure, and spent decades curing mill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her Theresa helped poor people around the world, most notably in Calcutta,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dhi opposed oppression in South Africa and In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tually, he ended British rule of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ard Stallman promoted the idea of free(dom)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GPL copyright is the most popular software license in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ex Haley was an author struggling to make a liv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rot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Autobiography of Malcolm 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he wrote about his slave ancestry in the book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08T21:47:52Z</dcterms:modified>
  <cp:revision>1129</cp:revision>
  <dc:subject/>
  <dc:title>Two Kinds of Power</dc:title>
</cp:coreProperties>
</file>