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764338" cy="98853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3776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3260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4292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3776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3260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681000" y="66600"/>
            <a:ext cx="1701720" cy="69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3776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3260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4292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3776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3260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81000" y="66600"/>
            <a:ext cx="1701720" cy="69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123840" y="6448320"/>
            <a:ext cx="4695840" cy="408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8265960" y="6486480"/>
            <a:ext cx="11624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0480" rIns="60480" tIns="23760" bIns="23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fld id="{210F3E44-7111-4C77-BEF8-0591601A5854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601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601"/>
              </a:spcBef>
              <a:buClr>
                <a:srgbClr val="0b287b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08160" indent="-163440">
              <a:spcBef>
                <a:spcPts val="601"/>
              </a:spcBef>
              <a:buClr>
                <a:srgbClr val="0b287b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-160560">
              <a:spcBef>
                <a:spcPts val="601"/>
              </a:spcBef>
              <a:buClr>
                <a:srgbClr val="0b287b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2840" indent="-16056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2840" indent="-16056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76320" y="517680"/>
            <a:ext cx="8991360" cy="0"/>
          </a:xfrm>
          <a:prstGeom prst="line">
            <a:avLst/>
          </a:prstGeom>
          <a:ln w="57240">
            <a:solidFill>
              <a:srgbClr val="2b7e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477120"/>
            <a:ext cx="8991360" cy="0"/>
          </a:xfrm>
          <a:prstGeom prst="line">
            <a:avLst/>
          </a:prstGeom>
          <a:ln w="57240">
            <a:solidFill>
              <a:srgbClr val="2b7e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42920" y="123840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65960" y="6486480"/>
            <a:ext cx="11624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0480" rIns="60480" tIns="23760" bIns="23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fld id="{4AC8899C-CF11-4CE7-8F13-BD53125F5A3E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84120" indent="0" algn="ctr">
              <a:spcBef>
                <a:spcPts val="499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14240" algn="ctr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44720" algn="ctr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22280" algn="ctr">
              <a:spcBef>
                <a:spcPts val="249"/>
              </a:spcBef>
              <a:buClr>
                <a:srgbClr val="0b287b"/>
              </a:buClr>
              <a:buFont typeface="Arial"/>
              <a:buChar char="-"/>
              <a:tabLst>
                <a:tab algn="l" pos="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5" marL="1322280"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6" marL="1322280"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2920" y="123840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42920" y="2152440"/>
            <a:ext cx="8858160" cy="957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6094440"/>
            <a:ext cx="3071880" cy="758880"/>
          </a:xfrm>
          <a:prstGeom prst="rect">
            <a:avLst/>
          </a:prstGeom>
          <a:ln w="0">
            <a:noFill/>
          </a:ln>
        </p:spPr>
      </p:pic>
      <p:pic>
        <p:nvPicPr>
          <p:cNvPr id="84" name="4000E30Nf" descr=""/>
          <p:cNvPicPr/>
          <p:nvPr/>
        </p:nvPicPr>
        <p:blipFill>
          <a:blip r:embed="rId2"/>
          <a:stretch/>
        </p:blipFill>
        <p:spPr>
          <a:xfrm>
            <a:off x="3429000" y="259092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49240" y="66600"/>
            <a:ext cx="560052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ow to get a copy of this cours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You can obtain this training course from the author’s websi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ww.CiaranMcHale.co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You can download the follow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slides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in PowerPoint and PDF forma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“Slides Manual”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PDF file with 2, 4, 6 or 8 slides per pag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“Notes Manual” to complement the slides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in LaTeX and PDF forma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You can find a more detailed discussion of the topics in this chapter in Chapter 1 (“Introduction”) of the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Notes Manual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13120" y="66600"/>
            <a:ext cx="144792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cens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pyright © 2009 Ciaran McHa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mission is hereby granted, free of charge, to any person obtaining a copy of th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ining course and associated documentation files (the “Training Course"), to deal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Training Course without restriction, including without limitation the rights to us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py, modify, merge, publish, distribute, sublicense, and/or sell copies of the Trai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urse, and to permit persons to whom the Training Course is furnished to do so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ject to the following condi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above copyright notice and this permission notice shall be included in all cop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 substantial portions of the Training Cour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TRAINING COURSE IS PROVIDED "AS IS", WITHOUT WARRANTY OF 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IND, EXPRESS OR IMPLIED, INCLUDING BUT NOT LIMITED TO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RRANTIES OF MERCHANTABILITY, FITNESS FOR A PARTICULAR PURP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NONINFRINGEMENT. IN NO EVENT SHALL THE AUTHORS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PYRIGHT HOLDERS BE LIABLE FOR ANY CLAIM, DAMAGES OR 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ABILITY, WHETHER IN AN ACTION OF CONTRACT, TORT OR OTHERWIS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ISING FROM, OUT OF OR IN CONNECTION WITH THE TRAINING CO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 THE USE OR OTHER DEALINGS IN THE TRAINING COUR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lobe logo is from www.mapAbility.com. Used with permiss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557080" y="66600"/>
            <a:ext cx="397836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urpose of this cours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lson Mandela changed the worl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 played a significant part in ending Apartheid in South Afr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his autobiography, Nelson Mandela writ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one had ever suggested to me how to go about removing the evils of racial prejudice, and I had to learn by trial and error.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—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pter 10 of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Long Walk to Freedo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t people who want to change the world face the same issu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y skills they need to do so are not taught in schools or univers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training course addresses this skills short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aches some skills that can be learned quick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ntifies other skills that require more effort to learn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you can study those skills outside of this cours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918880" y="66600"/>
            <a:ext cx="324828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ended audie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course is for people who want to change the worl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 at least their part of the world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such as their country or neighbourhood, or an industr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ch people self-identify with many different lab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s: activist, community leader, concerned citizen, entrepreneur, researcher, politician,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may find this course useful even if you do not want to change the worl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y skills for changing the world are inter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 of the skills can increase chances of success in your career and personal relationshi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92000" y="66600"/>
            <a:ext cx="571644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at is missing from this cours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course doe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o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ver topics such 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to organize a protest mar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to write a funding propos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reason for such omissions is that the details vary widely from one country to an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other reason is philosophica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fore you learn to do something right, you should make sure you are doing the right thing. So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course focuses o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rinciple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“the right thing to do”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ther than o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tail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“how to do something right”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034720" y="66600"/>
            <a:ext cx="502596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s training course is “free”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course is released under a “free” copyright licen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some people call an “open source” copyright licen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terms “free” and “open source” come from the programming commun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this means for yo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training materials (in electronic form) are available free of char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have the freedom t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, copy and modify the training materi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ach the training course (free-of-charge or for profi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trictions:  don’t remove the copyright notice;  don’t sue the auth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0">
              <a:spcBef>
                <a:spcPts val="499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79440" y="66600"/>
            <a:ext cx="657216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asons for making this a free cours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t people who try to change the world fai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major reason for this is that they lack many of the required ski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uthor of this course has an ambitious goa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help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illion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 people learn skills needed for changing the wor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ing this will help to accelerate (mostly beneficial) change in the wor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ever, he cannot achieve this goal by himself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 has incomplete knowledge of skills required to change the world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so there is lots of room for improvement in this cours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 has a limited amount of time to teach this course to oth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6880" y="66600"/>
            <a:ext cx="775980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asons for making this a free course (cont’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ing this course free helps to overcome those obstac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are free to modify the cour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exampl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ify some chap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e new chap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his way, the course can grow and improve over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are free to teach this course to oth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ee-of-charge or for prof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his way, you (and many others like you) can help millions of people to learn the skills in this cour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876320" y="66600"/>
            <a:ext cx="534672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s course is “self-teachable”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one more important aspect of this training cour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is self-teach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can read the slides yourself and understand th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do not need an instructor to teach the course to yo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ever, a knowledgeable instructor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valu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cilitate classroom discussion of issues raised in the cour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ll anecdotes to illustrate points in the sl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“self-teachable” aspect of this course is importa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author does not have to train instructors around the wor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ead, anyone can become an instructor for this cours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d the slides to understand th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n, ideally, read some books mentioned in the slides to flesh out your knowled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4-11-29T12:26:44Z</dcterms:created>
  <dc:creator>Ciaran McHale</dc:creator>
  <dc:description/>
  <dc:language>en-US</dc:language>
  <cp:lastModifiedBy>Ciaran McHale</cp:lastModifiedBy>
  <cp:lastPrinted>2002-08-30T21:11:41Z</cp:lastPrinted>
  <dcterms:modified xsi:type="dcterms:W3CDTF">2009-07-10T09:43:06Z</dcterms:modified>
  <cp:revision>1148</cp:revision>
  <dc:subject/>
  <dc:title>Introduction</dc:title>
</cp:coreProperties>
</file>