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of Data in 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468CDA7-6048-4733-B539-FE3B05EC0D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BBB1D97-654F-474B-9D1E-88C27515EF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zation of Data in LD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7920" y="66600"/>
            <a:ext cx="6567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Directory Information Tree (D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 an LDAF server is organized as a hierarchical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uall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, b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can introduce cyclic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ree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DAP Directory Information 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ory information 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bbreviat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ory 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ntry in the tree can be uniquely addressed by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 similar to /path/to/a/unix/file or C:\path\to\a\windows\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re are differ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parator at each level is a comma (“,”) rather than “/” or “\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level, ther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inguished name is written with the most significant piece first, like in a post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 distinguished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ribut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consider that example of a distinguished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“cn”, “ou” and “dc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nam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ilar to Java fields or C++ instance vari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llows “=” is the value of the specifi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ttributes have confusingly short nam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= commo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 = su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= organizatio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= domain component, that is, a component in a DNS dom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“CN”, “cn”, “cN” and “Cn” ar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8360" y="66600"/>
            <a:ext cx="6375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ies, objectClasses an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n LDAP server is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ry (object) can contain m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Cla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specifies the entry’s class (that is, its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Class is defined in an LDAP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DAP schema language supports single inheritance f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an objectClass specifies which attributes are optional and which are 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ema definition of an attribute specifies if it can have one value or multiple 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n attribute that has multiple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Number: +1 555 967-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Number: +1 555 967-56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ry can have multiple values for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0360" y="66600"/>
            <a:ext cx="60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distinguished name (RD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 distinguished name (RDN)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dentifies an entry at one level in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 example, consider the following distinguished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LDAP schem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at a particular attribute must be used in the R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you can use whate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 pref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long as it uniquely identifies one e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eded for uniqueness, you can use a “+” separated li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n=John Smith+telephoneNumber= +1 555 967-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1539720" y="167616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925720" y="20952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4130640" y="182844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333760" y="205704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200400"/>
            <a:ext cx="3200400" cy="34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distinguished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752120" y="2666880"/>
            <a:ext cx="12956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24080" y="2666880"/>
            <a:ext cx="76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59056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5320" y="2590560"/>
            <a:ext cx="1828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45000" y="66600"/>
            <a:ext cx="1782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I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LDAP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tore data in whatever format it wants: text files, relational databas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ble to import and export data in LDI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IF = LDAP Interchan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text-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ypically two ways to enter data into an LDAP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(proprietary or open-source) GUI client that uses the LDA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LDI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dministrators prefer using LDIF files instead of G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8900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LDI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n: uid=jsmith,ou=Marketing,dc=example,dc=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organizational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inetOrg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d: j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n: John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: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est of entry deleted for bre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lines start with a hash sign (“#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 lines are used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are specifi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colon (“:”) and a space, and the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inguished name) pseudo-attribute specifies the entry’s location within the directory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1440" y="66600"/>
            <a:ext cx="332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omplete but informative online LDAP man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ytrax.com/books/ld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DAP System Administ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erald Carter. O’Reilly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an overview of L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how to install and administer OpenLD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 open-source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6:22Z</dcterms:modified>
  <cp:revision>1513</cp:revision>
  <dc:subject/>
  <dc:title>Introduction to Spring</dc:title>
</cp:coreProperties>
</file>