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363117C-7C91-42DF-B63A-20AB7D736C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0AB3590-3D63-42E1-A184-378719197E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LD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= Lightweight Directory Access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useful when you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us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DAP to centralize directory inform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sier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relevant to security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X509 certificate contains an LDA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inguished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can be used to centralize usernames, passwords, public key certificates and us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8200" y="66600"/>
            <a:ext cx="2670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LDA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= Lightweight Directory Access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look at each of thos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llection of information you can look up to find a person, organizatio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probably encountered many direct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telephone directory”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directory enquiries” telephon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ory of sports clubs, embassies, local business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 uses 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ame way that Windows uses 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you to look up a file by it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09640" y="66600"/>
            <a:ext cx="3857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LDAP?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ghtwe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arison to its predeces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X.500 directory ser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on top of TCP/IP rather than with the 7-layer OSI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ts many operations that were rarely used in X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co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a specification for how clients communicate with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mplement LDAP clients and servers in many programming languages and on many opera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LDAP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ghtweight protoc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nables client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dire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6560" y="66600"/>
            <a:ext cx="5286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ce of LDAP to 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knowledge of LDAP is useful when working with secure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X509 certificate contain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inguished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rm comes from LD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ganizations use LDAP to central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names and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 mappings (for access control l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65160" y="66600"/>
            <a:ext cx="3562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use of LD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user systems require access to directory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: usernames and passwords, user-specific information (home directory, default shell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client: usernames and passwords, email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-tracking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rror-prone to update a user’s details if each system has its own directo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system can act as an LDAP client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entralize directory inform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sier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can use LDAP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logi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auto-completion of, say, names or email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us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 mappings for access control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63600" y="66600"/>
            <a:ext cx="4749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use of LDAP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of limited benefit if you have just one multi-us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-user system might provide its own built-in directory service that is easi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f LDAP grow quickly as an organization gets several multi-us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lready discussed, LDAP offers centralized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also offers replication and federation (splitting a directory’s contents over several, inter-connected LDAP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th a standalone computer, for example, home users, are unlikely to use LDAP or even know what it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s in large organizations are more likely to be familiar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92480" y="66600"/>
            <a:ext cx="2712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AP schem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 is meta-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written in the syntax of the thing it desc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base schema describes the structure of a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of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nd types of columns within each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uses sch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define an LDAP schema for the information you want to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ma syntax is a bit obscure and outside the scope of this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14400" y="66600"/>
            <a:ext cx="3663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AP and data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and databases have some characteristics in comm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perform searches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ve extensible 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are some dif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assumes that reads are much more frequent than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a database assumes that reads and updates occur with similar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does not support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remember that LDAP is an on-the-wir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LDAP server can use any technology it wants to store it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ight use tex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ight use a datab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t it won’t expose the database’s transaction capability to cl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12Z</dcterms:modified>
  <cp:revision>1509</cp:revision>
  <dc:subject/>
  <dc:title>Introduction to Spring</dc:title>
</cp:coreProperties>
</file>