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 List (A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CF4455D-27D3-4EF4-9991-37CA5F4CB8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298F7B0-0029-4ECB-93D4-2E1C13877D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Control List (AC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30040" y="66600"/>
            <a:ext cx="3287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control 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control l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L) is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thoriz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s what access permissions different users have for a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of resources: a file, a printer, operations on an object in a serve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ystems provide ACLs, but the mechanisms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using a pseudo-code syntax for an RPC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 Fred can exec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Manager.lo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Manager.log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.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 Mary can exec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833640"/>
            <a:ext cx="3429000" cy="73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terface&gt;.&lt;oper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” matches all operation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3733920"/>
            <a:ext cx="304920" cy="99036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32000" y="66600"/>
            <a:ext cx="463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-based access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some systems have thousands of u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dious and error prone to specify ACLs for each user individ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role-based access control (RBA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each user to one or more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write ACLs in terms of roles rather than individua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using a pseudo-code syntax for an RPC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 Fred belongs to employee, mana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 Mary belongs to employ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 Sam  belongs to custom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le employee can execute: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le manager can execute: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26840" y="66600"/>
            <a:ext cx="5823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-based access control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 of role-based access 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ay be thousands or even millions of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usually only a very small number of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CL maintenance is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22400" y="66600"/>
            <a:ext cx="5283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requisites for author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requisite for access control lists (or any other authorization mechanism)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thor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oint in specifying what user Fred can do if we cannot verify whether or not a us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: can a system provide authentication without (the overhead of) secure communications (such as SSL/TL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ly not,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is often done via username and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ernames and passwords are transmitted without encryption then a hacker can easily captur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control lists (ACLs) are widely used for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tedious to specify an ACL for each of 1000’s of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o map many users to a small numb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define ACLs for the ro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role-based access control (RB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is a prerequisite for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encryption is a prerequisite for authent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 people cannot snoop on usernames and passwo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5T18:14:47Z</dcterms:modified>
  <cp:revision>1506</cp:revision>
  <dc:subject/>
  <dc:title>Introduction to Spring</dc:title>
</cp:coreProperties>
</file>