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92CD683-8FEE-47B6-9935-BFFD34E225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6BD6804-DBAB-490C-9786-08B5EFB852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6160" y="66600"/>
            <a:ext cx="411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ly used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ames often appear in books and articles about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wo people who want to communicate sec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intercept and decode or modify messages sent between Alice and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old cowboy mov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the hero wore a white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villain wore a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te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somebody who fixes security loopholes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08400" y="66600"/>
            <a:ext cx="433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and credent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it as being a 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denti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ata that pro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ht be a password (to go with the username) or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a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Dr. John Smith” (that is 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passport (or driving license)” to prove I am who I say I am (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license to practice medicine” to prove that I am a doctor (another 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1280" y="66600"/>
            <a:ext cx="3003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, PKI and IET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nam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ymmetric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ften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rastructure required to use public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authority (CA)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used verify a user’s identity so the CA is willing to sign the user’s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T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that defines standards for Internet-relate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27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, VeriSign and PK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is a public-key encryp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name is an acronym of the surnames of its inven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n Rivest, Adi Shamir and Leonard Adle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invented in 1977 and is still widely us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SA Secu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company set up to promote and exploit cryptographic technologies (including 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 is now owned by EM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publ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cryptographic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(pseudo-)standards defined by a RSA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fficially standards, because they are defined by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everal have been adopted by formal standards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i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spin-off company from RSA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largest certificate authority fo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66600"/>
            <a:ext cx="81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well-known ciphers used in SSL and 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, Diffie-Hellman, DSA, SRP, 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, DES, IDEA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, Triple DES, AES (also called Rijndael), Camel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ptographic hash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2, MD4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5, SHA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SS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su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ryptographic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gotiated during the initial SSL handsh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17560" y="66600"/>
            <a:ext cx="3879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other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1 is an API used to obtain cryptographic tokens from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from a smart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2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file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private keys with accompanying 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encrypted for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Enhanced MAIL (P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ETF proposed standard for using public key cryptography in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idely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extension) is used by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SL can convert betwe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25Z</dcterms:modified>
  <cp:revision>1510</cp:revision>
  <dc:subject/>
  <dc:title>Introduction to Spring</dc:title>
</cp:coreProperties>
</file>