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1FE12CC-F205-4EB7-A118-6195FBC252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BD2E3DB-3102-47B6-92C3-B1F985CDB4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23600" y="66600"/>
            <a:ext cx="4132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SSL and T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4, the world wide web was new and imm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nd web servers sent only plaintex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fe to use your credit-card to buy something from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designed SSL to provide encrypted communication fo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stand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 sockets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had a patent for SSL, but made SSL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matured quickly with the help of the web comm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5, SSL 3.0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6, Netscape handed over responsibility for SSL to the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T is an international standard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renamed the next version of SSL to TLS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ink of TLS 1.0 as being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05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tra layer in the protocol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-level protocol normally talks directly to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designed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HTTP (an application-level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other application-level protoco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 remote procedure call (RPC)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ecure CORBA protocol is called I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ure CORBA protocol is called IIOP/T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62280" y="66600"/>
            <a:ext cx="5435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the two part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ciphers have the opposite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slower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afely exchange public keys, even if other people over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simplified explanation of how SSL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uses both symmetric and a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22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SSL uses six secret keys rather than just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are for client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ree are for server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multiple keys makes life even harder for ha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roup of three secret keys 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to initialize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66600"/>
            <a:ext cx="559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L/TLS supports many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/TLS uses one of each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are many competing ciphers in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ne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initial SSL/TLS handsh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nds a list of ciphers it understands to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picks one from each category and notifies client of it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whenever better ciphers are developed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to legal restrictions on ciphers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S is the new name for S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S 1.0 =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first used to secure communication via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be used to secure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both symmetric and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agreed-upon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coded to use a particular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nd server negotiate on which set of cipher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can evolve to support newer, better ciphers when they ar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08:24Z</dcterms:modified>
  <cp:revision>1507</cp:revision>
  <dc:subject/>
  <dc:title>Introduction to Spring</dc:title>
</cp:coreProperties>
</file>