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of Secur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0C11CD9-F3B2-49BD-A11E-252EBAE641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A12C996-A4D5-4E38-B283-08DAF38BBA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Secure 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09600" y="66600"/>
            <a:ext cx="6747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of cryptographic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goals of cipher-based commun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rovided by using a strong cipher and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rovided by the use of digital certificates, such as X5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ity (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ssage authent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rovided by a MAC (message authentication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 (discussed 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320" y="66600"/>
            <a:ext cx="7934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of cryptographic communi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udi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deny, disown or reject as un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repud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he ability to prove whether or not somebody sent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the need for non-repu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thinks the IBM share price will 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ells his stockbroker to sell his IBM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 afterwards, IBM shares increase i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stor pretends he never told his stockbroker to sell his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ckbroker uses non-repudiation to prove the investor is 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0600" y="66600"/>
            <a:ext cx="2414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ation is an important goal in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uthorization is distinct from crypt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by crypt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uthor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upon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35Z</dcterms:modified>
  <cp:revision>1503</cp:revision>
  <dc:subject/>
  <dc:title>Introduction to Spring</dc:title>
</cp:coreProperties>
</file>