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480" y="6448320"/>
            <a:ext cx="559116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ic and Asymmetric Cip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8C02634-48BC-4F63-8E6B-6BBA51EFFCE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1E9CB249-6237-4DD8-81D6-D15864ABB6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mmetric and Asymmetric Ci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00360" y="66600"/>
            <a:ext cx="5503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ely storing the private k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advertise my public key widely. Howev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my private key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somebody else could pretend to be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 for storing your private k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it in a file on your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nobody else can read the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UNIX file per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lock your computer when you leave your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reful who has access to backup disks of your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, encrypt the private key using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ss phra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assword) known only to you as the encryption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35120" y="66600"/>
            <a:ext cx="5935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imitation of asymmetric cip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create a public-private key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just need to run a software utility to create the key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proprietary and open-source utilities, such as OpenS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reates a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ublic key enables you to securely communicate with whoever has the corresponding 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rson with the private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i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, say, Amazo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you be s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ution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ertificate autho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ertificate Authority (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08040" y="66600"/>
            <a:ext cx="4275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ving license autho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: you want a driving license to use as a form of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go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riving license author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LA)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prove your identity to the D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ight use your passport, recent utility bills, 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LA gives you a (difficult-to-forge) driving licens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minated card containing your photograph, age, height, eye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nd end validity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ontains the DLA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riving license works as a form of identification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can verify that details on the driving license match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people trust the DLA (can’t be bribed to give out fake 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ertificate autho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A) serves a role similar to a 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71280" y="66600"/>
            <a:ext cx="3544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tificate Autho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: you want people to have faith in your public-private key pair, so you can use it as a form of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reate a public-private key pair your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ertificate signing requ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go to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ertificate author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)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prove your identity to the 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port, driving license, recent utility bills, 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 gives you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509 certific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particular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ther words, the C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g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C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rtificate specif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details (name, website address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of the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hecksum for the certificate, signed by the CA’s 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nd end validity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4191120"/>
            <a:ext cx="2590920" cy="108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pose of a certificate is to securely associate your details with your public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441972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72960" y="66600"/>
            <a:ext cx="4732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tificate Authority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X509 certificate works as a form of identification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software use a library to recognize (check) X509 certif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is bundled with copies of public keys for popular C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oftware can verify the signed checksum on the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people trust the CA (can’t be bribed to give out fake certific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online shopping with your web brow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click o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y No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ton, your browser visits a web page starting with https:// (the “s” denotes a secure web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b browser downloads the website’s X509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b browser chec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the certificate been signed by a CA trusted by the web brows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name of the website contained in the certificate’s detai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checks are okay then you know the website is not an impo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5240" y="66600"/>
            <a:ext cx="4078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ctical details of C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know you can you trust a 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just have to trust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like you have to trust the driving license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A “self signs” its own X509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nyone set themselves up as a 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but it might take a lot of effort to convince web browser companies to bundle your public key in their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can import extra CA certificates into their brows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ut this is “too much bother” for most us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ommon for an organization to have its ow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s money: don’t have to pay an external CA for certif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nal CA may not be trusted outside of the organization, but that is not a problem for internally-deploy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99000" y="78840"/>
            <a:ext cx="16761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ciphers are fast, but have some limi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ure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 on a secret key with a remote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need a separate secret key for each person you communicat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ciphers are slow 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secure communication without prior agreement of a secre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it possible to electronically “sign” a document to prove it came from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n asymmetric cipher initially to agree on a secre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witches over to a symmetric cipher (for sp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79800" y="66600"/>
            <a:ext cx="2928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509 is a standard for a security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m of identification, just like a driving license or pas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rtificate contain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o people can send you messages secur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keep the correspond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vate 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c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rtificate is signed by a certificate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ertificate authority (CA) is a trusted organization that can sign your X509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well known CAs that are trusted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rganization can have its own CA for internally-deploy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ymmetric Cip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19240" y="66600"/>
            <a:ext cx="3305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metric cip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mmetric cipher is one in which you 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 a plaintext message with a secre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ypt a ciphertext message with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ng a message twice produces the original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good symmetric cipher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fast, that is, require an acceptable amount of CPU time to encrypt/decr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trong, that is, take thousands of years to c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useful for encrypting files on your compu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you are the only person who needs to know the secret k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0200" y="66600"/>
            <a:ext cx="5699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ations of symmetric cip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ciphers have a significant limi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them unsuitable for communication with people in 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negotiate a secret key with the remote par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lephone call containing the secret key might be inter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for postal mail or email messages that contain a secre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ing the secret key through a courier means you have to trust the courier. Could he be brib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to keep track of multiple secret ke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ecret key for messages to A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fferent secret key for messages to Bob. And so 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a group of N people needs 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secret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ymmetr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phers addresses this lim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symmetric Cip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7120" y="66600"/>
            <a:ext cx="8470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ymmetric ciphers and public key cryptograp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ciphers were used for thousands of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1970s, Ralph Merkle developed an a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www.merkle.com for his PhD thesis (of historical inter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n, several better asymmetric ciphers have been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ymmetric cipher uses two ke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ssage encrypted with key1 can be decrypted only with key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ssage encrypted with key2 can be decrypted only with key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one key does not help you guess the other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blic key cryptograph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other name for asymmetric cip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key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ther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vate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1120" y="66600"/>
            <a:ext cx="5761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for public key cryptograp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ut my public key on, say, my business card or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curely send me a message, encrypt it with my 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I can decrypt the message (with my private k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make some (compiled) software available from my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make a checksum of the software files and encrypt the checksum with my private key (this is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g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download the software and the signed check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verify that the software comes from me (rather than a hacke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lculate a checksum for the software you downlo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use my public key to decode my checksum, and compare it to your check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checksums match then you know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ftware is genu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7560" y="66600"/>
            <a:ext cx="8033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bining symmetric and asymmetric cip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ous limitation of asymmetric cip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can use 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 times more CPU time than symmetric ci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use a two-step approach for remote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n asymmetric cipher to securely communicate a private key for use with a 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witch over to using the symmetric cipher with the agreed-upon 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 uses a (more elaborate) two-step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handshaking is slow due to use of an a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ommunication gets much faster due to use of a 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1T22:14:39Z</dcterms:modified>
  <cp:revision>1519</cp:revision>
  <dc:subject/>
  <dc:title>Introduction to Spring</dc:title>
</cp:coreProperties>
</file>