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64338" cy="9885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ion to Cryptographic Termi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39DE48E0-A6F0-4A3D-91D1-9F94BC2E335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014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612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95C1EFF3-BCAC-4DF8-B7A0-5774E06BF53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18960"/>
            <a:ext cx="8858160" cy="98100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roduction to Cryptographic Terminolo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39508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920" y="6529320"/>
            <a:ext cx="5410080" cy="281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3886200" y="2362320"/>
            <a:ext cx="1371600" cy="2232000"/>
            <a:chOff x="3886200" y="2362320"/>
            <a:chExt cx="1371600" cy="2232000"/>
          </a:xfrm>
        </p:grpSpPr>
        <p:grpSp>
          <p:nvGrpSpPr>
            <p:cNvPr id="86" name=""/>
            <p:cNvGrpSpPr/>
            <p:nvPr/>
          </p:nvGrpSpPr>
          <p:grpSpPr>
            <a:xfrm>
              <a:off x="4038480" y="3146400"/>
              <a:ext cx="136440" cy="136440"/>
              <a:chOff x="4038480" y="3146400"/>
              <a:chExt cx="136440" cy="136440"/>
            </a:xfrm>
          </p:grpSpPr>
          <p:sp>
            <p:nvSpPr>
              <p:cNvPr id="87" name=""/>
              <p:cNvSpPr/>
              <p:nvPr/>
            </p:nvSpPr>
            <p:spPr>
              <a:xfrm>
                <a:off x="403848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05108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4038480" y="3390840"/>
              <a:ext cx="136440" cy="136440"/>
              <a:chOff x="4038480" y="3390840"/>
              <a:chExt cx="136440" cy="136440"/>
            </a:xfrm>
          </p:grpSpPr>
          <p:sp>
            <p:nvSpPr>
              <p:cNvPr id="90" name=""/>
              <p:cNvSpPr/>
              <p:nvPr/>
            </p:nvSpPr>
            <p:spPr>
              <a:xfrm>
                <a:off x="4038480" y="33908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051080" y="33937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4038480" y="3603600"/>
              <a:ext cx="136440" cy="136440"/>
              <a:chOff x="4038480" y="3603600"/>
              <a:chExt cx="136440" cy="136440"/>
            </a:xfrm>
          </p:grpSpPr>
          <p:sp>
            <p:nvSpPr>
              <p:cNvPr id="93" name=""/>
              <p:cNvSpPr/>
              <p:nvPr/>
            </p:nvSpPr>
            <p:spPr>
              <a:xfrm>
                <a:off x="4038480" y="36036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051080" y="36064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4038480" y="3848040"/>
              <a:ext cx="136440" cy="136440"/>
              <a:chOff x="4038480" y="3848040"/>
              <a:chExt cx="136440" cy="136440"/>
            </a:xfrm>
          </p:grpSpPr>
          <p:sp>
            <p:nvSpPr>
              <p:cNvPr id="96" name=""/>
              <p:cNvSpPr/>
              <p:nvPr/>
            </p:nvSpPr>
            <p:spPr>
              <a:xfrm>
                <a:off x="4038480" y="38480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051080" y="38509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4038480" y="4076640"/>
              <a:ext cx="136440" cy="136440"/>
              <a:chOff x="4038480" y="4076640"/>
              <a:chExt cx="136440" cy="136440"/>
            </a:xfrm>
          </p:grpSpPr>
          <p:sp>
            <p:nvSpPr>
              <p:cNvPr id="99" name=""/>
              <p:cNvSpPr/>
              <p:nvPr/>
            </p:nvSpPr>
            <p:spPr>
              <a:xfrm>
                <a:off x="4038480" y="40766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051080" y="40795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4968720" y="3146400"/>
              <a:ext cx="136440" cy="136440"/>
              <a:chOff x="4968720" y="3146400"/>
              <a:chExt cx="136440" cy="136440"/>
            </a:xfrm>
          </p:grpSpPr>
          <p:sp>
            <p:nvSpPr>
              <p:cNvPr id="102" name=""/>
              <p:cNvSpPr/>
              <p:nvPr/>
            </p:nvSpPr>
            <p:spPr>
              <a:xfrm>
                <a:off x="496872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98132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4968720" y="3390840"/>
              <a:ext cx="136440" cy="136440"/>
              <a:chOff x="4968720" y="3390840"/>
              <a:chExt cx="136440" cy="136440"/>
            </a:xfrm>
          </p:grpSpPr>
          <p:sp>
            <p:nvSpPr>
              <p:cNvPr id="105" name=""/>
              <p:cNvSpPr/>
              <p:nvPr/>
            </p:nvSpPr>
            <p:spPr>
              <a:xfrm>
                <a:off x="4968720" y="33908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981320" y="33937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4968720" y="3603600"/>
              <a:ext cx="136440" cy="136440"/>
              <a:chOff x="4968720" y="3603600"/>
              <a:chExt cx="136440" cy="13644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8720" y="36036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981320" y="36064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4968720" y="3848040"/>
              <a:ext cx="136440" cy="136440"/>
              <a:chOff x="4968720" y="3848040"/>
              <a:chExt cx="136440" cy="136440"/>
            </a:xfrm>
          </p:grpSpPr>
          <p:sp>
            <p:nvSpPr>
              <p:cNvPr id="111" name=""/>
              <p:cNvSpPr/>
              <p:nvPr/>
            </p:nvSpPr>
            <p:spPr>
              <a:xfrm>
                <a:off x="4968720" y="38480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981320" y="38509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4968720" y="4076640"/>
              <a:ext cx="136440" cy="136440"/>
              <a:chOff x="4968720" y="4076640"/>
              <a:chExt cx="136440" cy="136440"/>
            </a:xfrm>
          </p:grpSpPr>
          <p:sp>
            <p:nvSpPr>
              <p:cNvPr id="114" name=""/>
              <p:cNvSpPr/>
              <p:nvPr/>
            </p:nvSpPr>
            <p:spPr>
              <a:xfrm>
                <a:off x="4968720" y="40766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981320" y="40795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4419720" y="3338640"/>
              <a:ext cx="304560" cy="838080"/>
              <a:chOff x="4419720" y="3338640"/>
              <a:chExt cx="304560" cy="838080"/>
            </a:xfrm>
          </p:grpSpPr>
          <p:sp>
            <p:nvSpPr>
              <p:cNvPr id="117" name=""/>
              <p:cNvSpPr/>
              <p:nvPr/>
            </p:nvSpPr>
            <p:spPr>
              <a:xfrm>
                <a:off x="4419720" y="3338640"/>
                <a:ext cx="304560" cy="304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419720" y="3567240"/>
                <a:ext cx="304560" cy="609480"/>
              </a:xfrm>
              <a:custGeom>
                <a:avLst/>
                <a:gdLst/>
                <a:ahLst/>
                <a:rect l="l" t="t" r="r" b="b"/>
                <a:pathLst>
                  <a:path w="192" h="384">
                    <a:moveTo>
                      <a:pt x="48" y="0"/>
                    </a:moveTo>
                    <a:lnTo>
                      <a:pt x="0" y="384"/>
                    </a:lnTo>
                    <a:lnTo>
                      <a:pt x="192" y="384"/>
                    </a:lnTo>
                    <a:lnTo>
                      <a:pt x="144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4968720" y="4305240"/>
              <a:ext cx="136440" cy="136440"/>
              <a:chOff x="4968720" y="4305240"/>
              <a:chExt cx="136440" cy="136440"/>
            </a:xfrm>
          </p:grpSpPr>
          <p:sp>
            <p:nvSpPr>
              <p:cNvPr id="120" name=""/>
              <p:cNvSpPr/>
              <p:nvPr/>
            </p:nvSpPr>
            <p:spPr>
              <a:xfrm>
                <a:off x="496872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98132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4038480" y="4305240"/>
              <a:ext cx="136440" cy="136440"/>
              <a:chOff x="4038480" y="4305240"/>
              <a:chExt cx="136440" cy="136440"/>
            </a:xfrm>
          </p:grpSpPr>
          <p:sp>
            <p:nvSpPr>
              <p:cNvPr id="123" name=""/>
              <p:cNvSpPr/>
              <p:nvPr/>
            </p:nvSpPr>
            <p:spPr>
              <a:xfrm>
                <a:off x="403848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05108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3886200" y="2994120"/>
              <a:ext cx="1371600" cy="1600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359240" y="4305240"/>
              <a:ext cx="136440" cy="136440"/>
              <a:chOff x="4359240" y="4305240"/>
              <a:chExt cx="136440" cy="136440"/>
            </a:xfrm>
          </p:grpSpPr>
          <p:sp>
            <p:nvSpPr>
              <p:cNvPr id="127" name=""/>
              <p:cNvSpPr/>
              <p:nvPr/>
            </p:nvSpPr>
            <p:spPr>
              <a:xfrm>
                <a:off x="435924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37184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664160" y="4305240"/>
              <a:ext cx="136440" cy="136440"/>
              <a:chOff x="4664160" y="4305240"/>
              <a:chExt cx="136440" cy="136440"/>
            </a:xfrm>
          </p:grpSpPr>
          <p:sp>
            <p:nvSpPr>
              <p:cNvPr id="130" name=""/>
              <p:cNvSpPr/>
              <p:nvPr/>
            </p:nvSpPr>
            <p:spPr>
              <a:xfrm>
                <a:off x="466416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67676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4359240" y="3146400"/>
              <a:ext cx="136440" cy="136440"/>
              <a:chOff x="4359240" y="3146400"/>
              <a:chExt cx="136440" cy="136440"/>
            </a:xfrm>
          </p:grpSpPr>
          <p:sp>
            <p:nvSpPr>
              <p:cNvPr id="133" name=""/>
              <p:cNvSpPr/>
              <p:nvPr/>
            </p:nvSpPr>
            <p:spPr>
              <a:xfrm>
                <a:off x="435924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37184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4664160" y="3146400"/>
              <a:ext cx="136440" cy="136440"/>
              <a:chOff x="4664160" y="3146400"/>
              <a:chExt cx="136440" cy="136440"/>
            </a:xfrm>
          </p:grpSpPr>
          <p:sp>
            <p:nvSpPr>
              <p:cNvPr id="136" name=""/>
              <p:cNvSpPr/>
              <p:nvPr/>
            </p:nvSpPr>
            <p:spPr>
              <a:xfrm>
                <a:off x="466416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67676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4141800" y="2362320"/>
              <a:ext cx="839520" cy="61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" y="11407"/>
                  </a:moveTo>
                  <a:arcTo wR="10800" hR="10800" stAng="10606598" swAng="112743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" y="11407"/>
                  </a:moveTo>
                  <a:arcTo wR="10800" hR="10800" stAng="10606598" swAng="11274320"/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4504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98312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75280" y="2414520"/>
              <a:ext cx="761400" cy="619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" y="11407"/>
                  </a:moveTo>
                  <a:arcTo wR="10800" hR="10800" stAng="10606598" swAng="112743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" y="11407"/>
                  </a:moveTo>
                  <a:arcTo wR="10800" hR="10800" stAng="10606598" swAng="11274320"/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17816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93704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566880" y="66600"/>
            <a:ext cx="19414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y lengt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 fontScale="98000"/>
          </a:bodyPr>
          <a:p>
            <a:pPr marL="264600" indent="-2646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ciphers consist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7880" indent="-21168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well known algorithm, and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7880" indent="-21168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a number used to prime the algorith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5296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of an easy-to-break cip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7880" indent="-21168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orithm: rotate each letter “N”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7880" indent="-21168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: a value in the range 1 to 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5296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ey leng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number of bits used to represent a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7880" indent="-21168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, a key length of 128 implies (at most)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2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ssible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7880" indent="-21168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alue in the range 1 to 26 can be represented in 5 bits 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3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5296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 tradeoff. Longer ke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7880" indent="-21168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the cipher more secure with only a little extra overhea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hich is goo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7880" indent="-21168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 more storage space and transmission bandwidth (which is b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974680" y="66600"/>
            <a:ext cx="31287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y length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ountries impose legal restrictions on key leng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rm “export cipher” refers to a cipher used with a short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tention is as foll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encryption can be used by the mili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do not want to allow strong encryption technologies to be used by foreign militaries (possible enem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, we allow only weaker encryption to be ex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rt restrictions on encryption make internation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-commerce more diffic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01240" y="66600"/>
            <a:ext cx="69073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splaced concern about public ciph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n’t mathematicians working for the &lt;such-and-such&gt; government keep silent about flaws so they can decode your secret messages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, be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law is likely to be spotted by several people in different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keeping silent about flaws just lets somebody else get the cred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commerce (which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u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cannot work without reliable cip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commerce is not just buying books from Amaz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also online ba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stock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business-to-business trans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commerce is driving advances in cryptography much more than the &lt;such-and-such&gt; government’s attempts at sp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511440" y="66600"/>
            <a:ext cx="21211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su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data is being transmitted, it might become corrup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, there might be noise on the transmission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ecksum is a way to detect accidental corruption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algorith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calculateChecksum(char* data, int size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int result = 0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for (int i = 0; i &lt; size; i++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result += (unsigned int)data[i]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return resul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er transmits data plus the checksum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r calculates checksum value for receiv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s this to the transmitted checks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83840" y="66600"/>
            <a:ext cx="63565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ssage Authentication Code (MAC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ecksum is not infallible, but it is a useful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ecksum can guard again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cident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u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is too simplistic to guard against deliberate corru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ssage authentication co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AC) is a kind of checksu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hecksum value is encoded in, say, 20 bytes instead of just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it is encry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properties make a MAC unfeasibly difficult to deliberately f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AC is one of several ingredients used to ensure secure communic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ipher ensures nobody else can understand a secret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AC ensures nobody can modify a secret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42920" y="239508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699000" y="78840"/>
            <a:ext cx="167616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hapter has introduced some basic terminolog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yptography, cip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rypt = encipher; decrypt = decip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intext and cipher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 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authentication code (MAC) is an encrypted checks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o detect tampering of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explain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security through obscurity is a bad id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ciphers tested by mathematicians worldwide are be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ts of people can rely on the same cipher; but they use different (secret) k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© 2008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321000" y="66600"/>
            <a:ext cx="2455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yptograph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r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ryptograph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two part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ryp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graph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r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ryp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es from the Greek wor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rypt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s hidden or 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ryp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n underground burial place or a secret meeting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or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rypt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ans “difficult to understand”, that is, a “hidden meanin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graph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ffix denotes a process or science for drawing, writing, representing, describing and so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ography, choreography, geography, photography, typography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cryptography is the science of hidden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ncrypt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urn a plaintext message into a hidden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rypt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urn a hidden message back into a plaintext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11760" y="66600"/>
            <a:ext cx="12477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ph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rabic number system had some important innov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ithmetic is much simpler than arithmetic with Roman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ncept of zero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f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rabic) has two meaning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denotes “nothin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denotes an order of magnitude (10, 100, 1000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ly, Europeans were confused by the concept of zer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iph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f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was used to refer to something that was a myst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or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iph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olved to mean the deliberate hiding of mea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ph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ryptograph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almost synony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nciph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s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ncryp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iph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s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ryp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324240" y="66600"/>
            <a:ext cx="24350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pher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ph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n algorithm that enciphers and deciphers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ciphers take a secr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e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controls the algorit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of a (very simple to break) cip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orithm is: rotate each letter “N”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” is the secr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“N” is 1 then A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, B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, …, Y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Z, Z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“N” is 2 then A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, B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, …, Y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, Z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ing the cipher is not enough to decode a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also need to know the key that was used to encode the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78240" y="66600"/>
            <a:ext cx="41385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intext and ciphertex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r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laintex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s a readable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ssage do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to be text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might be a graphic file or an audio file inst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ely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phertex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s an encrypted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760" y="66600"/>
            <a:ext cx="45324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urity though obscur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 through obscur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your own cipher (probably with a hardcoded ke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body else knows your cipher’s algorithm (so it is obscu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mistakenly think your secrets are sa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law in is that there are always people smarter than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rter people are likely to find flaws in your cip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they can decode all your secret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820960" y="66600"/>
            <a:ext cx="34416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ll known ciph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 better approach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somebody invents a cipher, he publishes the detai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hematicians around the world test the cipher for fl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o flaws can be found then everybody has confidence in the cip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ro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hat is, good) cipher can be broken only by trying every single possible key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re, say,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7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ssible keys then this approach might take thousands of years of computer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you need to do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k a key (at random) to use with the cip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ep the key secr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760" y="66600"/>
            <a:ext cx="45309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about Moore’s Law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965, Gordon Moore (co-founder of Intel) made an observ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ances in technology mean you can put twice as many transistors onto a chip every 18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observation has remained true for over 40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ing the transistors usually means doubling the computational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15 years time, computers will be 1000 faster than they are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ipher that takes 1000 years to crack today will take only one year to crack in 15 years’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no need to panic, be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of today’s secret messages will be worthless in 15 years’ tim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o it will not be worthwhile for somebody to crack th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ciphers will be developed within 1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jmchale</cp:lastModifiedBy>
  <cp:lastPrinted>2002-08-30T21:11:41Z</cp:lastPrinted>
  <dcterms:modified xsi:type="dcterms:W3CDTF">2008-05-11T22:14:44Z</dcterms:modified>
  <cp:revision>1499</cp:revision>
  <dc:subject/>
  <dc:title>Introduction to Spring</dc:title>
</cp:coreProperties>
</file>