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956B9F6-996C-42E7-9138-2E85567E00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7BF1AB4-BC32-4239-A429-F4E6A17AF4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72920" y="66600"/>
            <a:ext cx="397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communications is becoming more common in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web browsers and 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stributed middleware (remote procedure call, CORBA, web service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just want to learn “System X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ystem X provides support for secur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y need to learn enough about secure communications to be able to configure and administer System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imed at such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the concepts (but not the details) of secur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elatively short (just a few hours of mate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2:46Z</dcterms:modified>
  <cp:revision>1498</cp:revision>
  <dc:subject/>
  <dc:title>Introduction to Spring</dc:title>
</cp:coreProperties>
</file>