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64400" cy="988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5040" y="-1800"/>
            <a:ext cx="2933640" cy="501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GB" sz="11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33640" y="-1800"/>
            <a:ext cx="2934000" cy="501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  <a:defRPr b="0" i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GB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3"/>
          </p:nvPr>
        </p:nvSpPr>
        <p:spPr>
          <a:xfrm>
            <a:off x="-5040" y="9386640"/>
            <a:ext cx="2933640" cy="501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  <a:defRPr b="0" i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GB" sz="11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4"/>
          </p:nvPr>
        </p:nvSpPr>
        <p:spPr>
          <a:xfrm>
            <a:off x="3833640" y="9386640"/>
            <a:ext cx="2934000" cy="501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  <a:defRPr b="0" i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D29C2A83-101E-4F3F-92F5-FDA3BD36A7C0}" type="slidenum">
              <a:rPr b="0" i="1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Img"/>
          </p:nvPr>
        </p:nvSpPr>
        <p:spPr>
          <a:xfrm>
            <a:off x="1039680" y="842760"/>
            <a:ext cx="4686480" cy="35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body"/>
          </p:nvPr>
        </p:nvSpPr>
        <p:spPr>
          <a:xfrm>
            <a:off x="676440" y="4695480"/>
            <a:ext cx="541116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833640" y="9386640"/>
            <a:ext cx="2934000" cy="501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C436D767-B363-40ED-8776-317711B5AC07}" type="slidenum">
              <a:rPr b="0" i="1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-5040" y="9386640"/>
            <a:ext cx="2933640" cy="501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GB" sz="11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5040" y="-1800"/>
            <a:ext cx="2933640" cy="501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GB" sz="11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833640" y="-1800"/>
            <a:ext cx="2934000" cy="501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GB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22320" y="750960"/>
            <a:ext cx="4923000" cy="36925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01800" y="4694400"/>
            <a:ext cx="4960800" cy="446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Uses of Java Ref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0501B2D6-9458-4773-B53C-C1E3B69FCD8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014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612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2834BBC9-D8C0-4CD1-BD4E-837BE71D1BF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Uses of Java Refle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920" y="6529320"/>
            <a:ext cx="5410080" cy="28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09480" y="2503440"/>
            <a:ext cx="7925040" cy="2034360"/>
            <a:chOff x="609480" y="2503440"/>
            <a:chExt cx="7925040" cy="2034360"/>
          </a:xfrm>
        </p:grpSpPr>
        <p:pic>
          <p:nvPicPr>
            <p:cNvPr id="92" name="" descr=""/>
            <p:cNvPicPr/>
            <p:nvPr/>
          </p:nvPicPr>
          <p:blipFill>
            <a:blip r:embed="rId1"/>
            <a:srcRect l="644" t="14957" r="5150" b="0"/>
            <a:stretch/>
          </p:blipFill>
          <p:spPr>
            <a:xfrm>
              <a:off x="609480" y="2503440"/>
              <a:ext cx="792504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200400" y="4114800"/>
              <a:ext cx="27432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xplained Simpl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ode generation and bytecode mani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52880" y="61920"/>
            <a:ext cx="2751120" cy="7765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e genera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pilers have the following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’s reflection metadata is conceptually similar to a parse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build a Java code generation tool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a Java parser. Instead run the Java compi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t generated .class files as your parse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reflection to navigate over this “parse tre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709560" y="1434960"/>
            <a:ext cx="8129520" cy="1978200"/>
            <a:chOff x="709560" y="1434960"/>
            <a:chExt cx="8129520" cy="1978200"/>
          </a:xfrm>
        </p:grpSpPr>
        <p:sp>
          <p:nvSpPr>
            <p:cNvPr id="117" name=""/>
            <p:cNvSpPr/>
            <p:nvPr/>
          </p:nvSpPr>
          <p:spPr>
            <a:xfrm>
              <a:off x="6804000" y="1434960"/>
              <a:ext cx="20350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nerated fi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47920" y="257976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614760" y="2046240"/>
              <a:ext cx="12952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se tre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3892680" y="2433600"/>
              <a:ext cx="750240" cy="672840"/>
              <a:chOff x="3892680" y="2433600"/>
              <a:chExt cx="750240" cy="672840"/>
            </a:xfrm>
          </p:grpSpPr>
          <p:sp>
            <p:nvSpPr>
              <p:cNvPr id="121" name=""/>
              <p:cNvSpPr/>
              <p:nvPr/>
            </p:nvSpPr>
            <p:spPr>
              <a:xfrm>
                <a:off x="4110480" y="2433600"/>
                <a:ext cx="96840" cy="14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892680" y="2697120"/>
                <a:ext cx="96840" cy="14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74280" y="2697120"/>
                <a:ext cx="96840" cy="14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546080" y="2697120"/>
                <a:ext cx="96840" cy="14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110480" y="2960640"/>
                <a:ext cx="96840" cy="14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437720" y="2960640"/>
                <a:ext cx="95400" cy="14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3939840" y="2585880"/>
                <a:ext cx="217800" cy="10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158000" y="2585880"/>
                <a:ext cx="163440" cy="10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58000" y="2585880"/>
                <a:ext cx="437400" cy="10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4158000" y="2849400"/>
                <a:ext cx="163440" cy="10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321800" y="2849400"/>
                <a:ext cx="163440" cy="10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3699000" y="1976400"/>
              <a:ext cx="1137960" cy="1284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59240" y="2274840"/>
              <a:ext cx="144648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ck-end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n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16560" y="1976400"/>
              <a:ext cx="1206360" cy="1284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57400" y="2274840"/>
              <a:ext cx="10684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5320" y="1976400"/>
              <a:ext cx="1052640" cy="1284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00400" y="257976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78360" y="2579760"/>
              <a:ext cx="455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11240" y="1824120"/>
              <a:ext cx="4864320" cy="158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14480" y="1434960"/>
              <a:ext cx="48196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i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6781680" y="1833480"/>
              <a:ext cx="1652400" cy="1515600"/>
              <a:chOff x="6781680" y="1833480"/>
              <a:chExt cx="1652400" cy="1515600"/>
            </a:xfrm>
          </p:grpSpPr>
          <p:sp>
            <p:nvSpPr>
              <p:cNvPr id="142" name=""/>
              <p:cNvSpPr/>
              <p:nvPr/>
            </p:nvSpPr>
            <p:spPr>
              <a:xfrm>
                <a:off x="6781680" y="2759040"/>
                <a:ext cx="7635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6781680" y="2302200"/>
                <a:ext cx="609840" cy="38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781680" y="2835720"/>
                <a:ext cx="87264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441920" y="1833480"/>
                <a:ext cx="708840" cy="877320"/>
              </a:xfrm>
              <a:prstGeom prst="flowChartMagneticDisk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583400" y="2152800"/>
                <a:ext cx="708840" cy="877320"/>
              </a:xfrm>
              <a:prstGeom prst="flowChartMagneticDisk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725600" y="2471400"/>
                <a:ext cx="708480" cy="877680"/>
              </a:xfrm>
              <a:prstGeom prst="flowChartMagneticDisk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709560" y="2130480"/>
              <a:ext cx="708120" cy="877320"/>
              <a:chOff x="709560" y="2130480"/>
              <a:chExt cx="708120" cy="877320"/>
            </a:xfrm>
          </p:grpSpPr>
          <p:sp>
            <p:nvSpPr>
              <p:cNvPr id="149" name=""/>
              <p:cNvSpPr/>
              <p:nvPr/>
            </p:nvSpPr>
            <p:spPr>
              <a:xfrm>
                <a:off x="709560" y="2130480"/>
                <a:ext cx="708120" cy="877320"/>
              </a:xfrm>
              <a:prstGeom prst="flowChartMagneticDisk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9560" y="2392920"/>
                <a:ext cx="708120" cy="58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put fil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14320" y="66240"/>
            <a:ext cx="384948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e generators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-time code generation in a proj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echnique described on previous slide to generat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run Java compiler to compile generated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nt to automate the code generation and compi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time code gen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echniques described on previous slide to generat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invoke a Java compil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rom insid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applic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use (non-standard) API to Sun Java compi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d 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ols.j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ich is shipped with the Sun JD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can use Janino (an open-source, embeddable, Java compil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ed at www.janino.n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ly, 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.forName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load the compiled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50600" y="66600"/>
            <a:ext cx="5799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s for runtime code gene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time code generation is use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JSP (Java Server P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generate servlets from .jsp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IDEs and debug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valuate Java expressions entered by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84360" y="66240"/>
            <a:ext cx="596736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s for Java bytecode manipu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 fontScale="99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lnSpc>
                <a:spcPct val="9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a compiler for a scripting language and generate Java byte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0880" indent="-213840">
              <a:lnSpc>
                <a:spcPct val="90000"/>
              </a:lnSpc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: out-of-the-box integration between Java and the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lnSpc>
                <a:spcPct val="9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ovy (groovy.codehaus.org) uses this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lnSpc>
                <a:spcPct val="9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a .class file, optimize bytecode and rewrite the .class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analy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lnSpc>
                <a:spcPct val="9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a .class file, analyze bytecode and generate a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obfus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lnSpc>
                <a:spcPct val="9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gle names of methods and fields in .class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programming (AO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lnSpc>
                <a:spcPct val="9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y bytecode to insert “interception”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lnSpc>
                <a:spcPct val="9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proxies for classes or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lnSpc>
                <a:spcPct val="9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ing uses this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1120" y="66240"/>
            <a:ext cx="522756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ols for bytecode manipu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open-source projects for bytecode manip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M (http://asm.objectweb.org/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EL (http://jakarta.apache.org/bcel/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P (serp.sourceforge.n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GLIB (Code Generation LIBrary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t on top of BC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a higher-level API for generating dynamic prox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by other tools, such as Spring and Hiber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699000" y="78840"/>
            <a:ext cx="167616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ools use Java ref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gins to extend functionality of an application (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completion in Java editors and 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naming conventions of methods to infer semantics (JUnit test metho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e components together (Spr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e-time code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time code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prox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servlets from a markup language (JS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 Java expressions entered interactively by a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8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Basic uses of Java ref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76720" y="66600"/>
            <a:ext cx="714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 reads build (compilation) instructions from an XML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 is hard-coded to know how to process top-level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lnSpc>
                <a:spcPct val="10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Courier New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per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rg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skde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o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Ant task (used insid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arg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s) is a plug-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example Ant build file on the next slide for examples of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task plug-ins are bundled with the Ant distribu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kd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operties file provides a mapping for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ask-name </a:t>
            </a: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class-that-implements-tas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can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askde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ell Ant about user-written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example on the next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61920" y="66240"/>
            <a:ext cx="357012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 Ant build fi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?xml version=“1.0”?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jec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=“example build file” ...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pert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=“src.dir” value=“...”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pert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=“build.dir” value=“...”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pert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=“lib.dir” value=“...”/&gt;</a:t>
            </a:r>
            <a:br>
              <a:rPr sz="1800"/>
            </a:br>
            <a:br>
              <a:rPr sz="1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=“do-everything”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kdi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r=“...”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kdi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r=“...”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avac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rcdir=“...” destdir=“...” excludes=“...”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a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arfile=“...” basedir=“...” excludes=“...”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targe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1800"/>
            </a:br>
            <a:br>
              <a:rPr sz="1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skde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=“foo” classname=“com.example.tools.Foo”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projec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00160" y="66240"/>
            <a:ext cx="509904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-completion in a text edi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Java editors and IDEs provide auto-compl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you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“someObj.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 pop-up menu lists fields and methods for the object’s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-up menu is populated by using Java ref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28760" y="66600"/>
            <a:ext cx="1011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Un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it 3 uses reflection to find methods whose names start with “test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lgorithm was changed in JUnit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methods are identified by an annot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nnotations were introduced in Java 1.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ion is used to find methods with the appropriate an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25800" y="66600"/>
            <a:ext cx="12463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ow is an extract from a Spring configuration fi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?xml version=“1.0”?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a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&l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an 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“employee1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“com.example.xyz.Employee”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&l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pert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=“firstName” value=“John”/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&l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pert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=“lastName” value=“Smith”/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&l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pert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=“manager”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“manager”/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&l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b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2000"/>
            </a:br>
            <a:br>
              <a:rPr sz="1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&l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an 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“manager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“com.example.xyz.Employee”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&l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pert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=“firstName” value=“John”/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&l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pert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=“lastName” value=“Smith”/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&l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pert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=“manager” ref=“manager”/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&l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b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2000"/>
            </a:br>
            <a:br>
              <a:rPr sz="1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bean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200400" y="3124080"/>
            <a:ext cx="220968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09920" y="66240"/>
            <a:ext cx="226368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ring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ing uses reflection to create an object for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e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bject’s type is specified by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default, the object is created with its default constr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uctor-ar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lements (nested insid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to use a non-default con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an object is constructed,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oper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exam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ing uses reflection to invok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.setXxx(valu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x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capitalized name of propert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x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ing uses reflection to determine the type of the parameter passed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.setXxx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ing can support primitive types and commo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tribute refers to anoth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dentified by it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jmchale</cp:lastModifiedBy>
  <cp:lastPrinted>2002-08-30T21:11:41Z</cp:lastPrinted>
  <dcterms:modified xsi:type="dcterms:W3CDTF">2008-04-21T04:38:10Z</dcterms:modified>
  <cp:revision>1496</cp:revision>
  <dc:subject/>
  <dc:title>Example Uses of Java Reflection</dc:title>
</cp:coreProperties>
</file>