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DC2290D-0A01-4617-934B-3FD7270390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EDDA5FC-9C87-412F-B042-CF6E21FE06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67200" y="66600"/>
            <a:ext cx="29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rox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definition: “a person authorized to act for ano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if you ask a friend to vote on your behalf then you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voting by prox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terms, a proxy is a delegation object (or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remote procedure call (RPC)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nvokes on a (local) prox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object sends request across the network to a server and waits for a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anies set up a HTTP proxy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prevents outgoing connections to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b browsers cannot connect to remote web site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re configured to connect via the company’s proxy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server can be configured to disallow access to eBay, Amaz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3840" y="66240"/>
            <a:ext cx="3978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xies in 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3 introduced dynamic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I is define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x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roxy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Loader load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 interfac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InvocationHandler h) throws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Object[] args) throws Throwabl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1000" y="66240"/>
            <a:ext cx="6610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required to create a dynamic 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lass that impleme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mplement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legate to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ome “added value”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the following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().getClassLoader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.getInterface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“wrapper” around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cast the resul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n interface implemented by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8880" y="66240"/>
            <a:ext cx="342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Proxy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runtime code gener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a “hidden” class with a name of the for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Proxy&lt;in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$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vents namespace pol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the specifi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thod puts parameters i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a dynamic prox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mplements 1+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interfaces is a good programm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is requirement is not a problem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60320" y="66240"/>
            <a:ext cx="2156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Handler implements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Object target;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Handler(Objec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his.target = targe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Object[] args) throws Throw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Object result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.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arget, arg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cationTargetException 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x.getCaus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 // continued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0240" y="1346040"/>
            <a:ext cx="248148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meter is usually ign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4640" y="1641600"/>
            <a:ext cx="795240" cy="79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4200" y="66240"/>
            <a:ext cx="3259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// continued from the previous slide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eateProx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ject targe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.newProxyInst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ClassLoader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Interfaces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new Handler(target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5600" y="66240"/>
            <a:ext cx="555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uses for dynamic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-value code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rce secur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and commit or rollback a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&amp; recursion to print details of all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debug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testing system, a proxy might “pretend” to be targe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“test” values instead of delegating to a real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Mock (www.easymock.org) makes it easy to write tests in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22Z</dcterms:modified>
  <cp:revision>1497</cp:revision>
  <dc:subject/>
  <dc:title>Dynamic Proxies</dc:title>
</cp:coreProperties>
</file>