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 to Java Ref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FF0F584B-9BAC-46AD-948A-C9B0F3E20A2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BCFD81FD-61F8-420E-BA12-4E4C98A03D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Java Refl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09480" y="2503440"/>
            <a:ext cx="7925040" cy="2034360"/>
            <a:chOff x="609480" y="2503440"/>
            <a:chExt cx="7925040" cy="2034360"/>
          </a:xfrm>
        </p:grpSpPr>
        <p:pic>
          <p:nvPicPr>
            <p:cNvPr id="84" name="" descr=""/>
            <p:cNvPicPr/>
            <p:nvPr/>
          </p:nvPicPr>
          <p:blipFill>
            <a:blip r:embed="rId1"/>
            <a:srcRect l="644" t="14957" r="5150" b="0"/>
            <a:stretch/>
          </p:blipFill>
          <p:spPr>
            <a:xfrm>
              <a:off x="609480" y="2503440"/>
              <a:ext cx="792504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200400" y="4114800"/>
              <a:ext cx="2743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lained Simp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6099120"/>
            <a:ext cx="3071880" cy="7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14080" y="66240"/>
            <a:ext cx="628020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data for primitive types and 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ssociat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ance with each primitive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1 = int.clas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2 = boolean.clas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3 = void.cla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.forNam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ces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for an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4 = byte.class;           // by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5 = Class.forName(“[B”);  // byte[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6 = Class.forName(“[[B”); // byte[][]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7 = Class.forName(“[Ljava.util.Properties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 scheme used b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.forNam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te; C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r; 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uble; F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loat; I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; J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ng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lass-nam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ss-name[]; 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rt; 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s many “[”s as there are dimensions in the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08640" y="1295280"/>
            <a:ext cx="3201840" cy="58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ht be returned b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thod.getReturnTyp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203360" y="1614600"/>
            <a:ext cx="1204920" cy="23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93760" y="66240"/>
            <a:ext cx="49183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cellaneous Class method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re some useful methods defined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lass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 // fully-qualified 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Interfa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rimiti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Component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 // only for array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lling constru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18960" y="66240"/>
            <a:ext cx="48610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king a default constru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.newInstanc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all the default constru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 class Foo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static Foo create() throws Exception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String className = System.getProperty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“foo.implementation.class”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“com.example.myproject.FooImpl”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Class c = Cla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lass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return (Foo)c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Instan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abstract void op1(...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abstract void op2(...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obj = Foo.creat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.op1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2438280"/>
            <a:ext cx="2362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971800"/>
            <a:ext cx="990360" cy="58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2133720"/>
            <a:ext cx="1143000" cy="58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of 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371600" y="3047760"/>
            <a:ext cx="2286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55560" y="66240"/>
            <a:ext cx="59655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king a default constructor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echnique is used in COR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BA is an RPC (remote procedure call)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any competing implementations of CO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y operation i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B.init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property specifies which implementation of CORBA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RBA application can be written in a portabl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the implementation you want to use via a system proper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–D&lt;name&gt;=&lt;value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-line option to the Java interpr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technique is used for J2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2EE is a collection of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any competing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system property to specify which implementation you are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76680" y="66240"/>
            <a:ext cx="353520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ug-in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properties file to store a mapping for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ugin nam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lass 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ools support plugins: Ant, Maven, Eclipse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 class Plugin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abstract void op1(...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abstract void op1(...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 class PluginManager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static Plugin load(String nam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throws Exception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String className = props.getProperty(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Class c = Cla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lass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return (Plugin)c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Instan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ugin obj = PluginManager.load(“...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46000" y="66240"/>
            <a:ext cx="557820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king a non-default constru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complex than invoking the default constru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.getConstructor(Class[] parameterTyp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uctor.newInstance(Object[] parameter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 class PluginManager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static Plugin load(String nam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throws Exception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String className = props.getProperty(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Class c = Class.forName(class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Constructor cons = c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Construc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new Class[]{String.class, String.class}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return (Plugin)con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Instan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new Object[]{“x”, “y”}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ugin obj = PluginManager.load(“...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7800" y="66240"/>
            <a:ext cx="61516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ng primitive types as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to pass a primitive type as a param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 the primitive value in an object wra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use the object wrapper as the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wrappers for primitive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Courier New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java.lang.Bool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Courier New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yte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java.lang.By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Courier New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java.lang.Charac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Courier New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java.lang.Inte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Courier New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22560" y="66240"/>
            <a:ext cx="303840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king a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ly similar to invoking a non-default constru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.getMethod(String nam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Class[]parameterTyp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thod.invoke(Object targe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Object[] parameter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obj =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 = obj.getClass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thod m = c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“doWork”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new Class[]{String.class, String.class}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result= m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obj, new Object[]{“x”,“y”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8760" y="66240"/>
            <a:ext cx="33685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ing up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I for looking up methods is fragmen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lookup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in a class or its ancestor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lookup a public or non-public metho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lar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pecified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lass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Metho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nam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Class[] parameterTypes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Method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etho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Metho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nam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Class[] parameterTypes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Method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Metho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266720" y="25146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2057400"/>
            <a:ext cx="2667240" cy="83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etter 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have be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PublicMetho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03480" y="66600"/>
            <a:ext cx="4905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ing an inherited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de searches up a class hierarchy for a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for both public and non-publ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thod findMethod(Class cls, String methodNam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Class[] paramTyp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Method method = null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while (cls != null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try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method = cl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ethodNam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paramTypes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break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} catch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SuchMethodExcep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x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cls = cl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uper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etho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30560" y="66240"/>
            <a:ext cx="28195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ing a fie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ways to access a fie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invoking get- and set-style methods (if the class defines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the code shown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obj =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 = obj.getClass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eld f = c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Fie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“firstName”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obj, “John”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value = f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obj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19400" y="66240"/>
            <a:ext cx="285264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ing up fiel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I for looking up fields is fragmen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lookup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in a class or its ancestor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lookup a public or non-public fiel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lar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pecified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lass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Field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Fie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Field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Fiel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Field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Fie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Field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Fiel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266720" y="25146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2057400"/>
            <a:ext cx="2667240" cy="83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etter 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have be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PublicFiel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81040" y="66600"/>
            <a:ext cx="4351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ing an inherited fie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de searches up a class hierarchy for a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for both public and non-public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eld findField(Class cls, String fieldNam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Field field = null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while (cls != null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try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field = cl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Fie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ield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break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} catch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SuchFieldExcep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x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cls = cl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uper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iel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Mod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24240" y="66240"/>
            <a:ext cx="24321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va modifi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defines 11 modifi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Courier New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ctf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nchron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ns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lat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the modifiers can be applied to a class, method or fie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modifiers is represented as bit-fields in an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set of modifiers by call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getModifiers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static methods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lang.reflect.Modif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boolean isAbstract(int modifier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boolean isFinal(int modifier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boolean isNative(int modifier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boolean isPrivate(int modifier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0760" y="66240"/>
            <a:ext cx="66643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ing non-public fields and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 the following 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herited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lang.reflect.Accessible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Accessi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Accessi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olean flag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Accessi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ccessibleObject[] arra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boolean fla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terminology might have been “SuppressSecurityChecks” instead of “Accessi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!Modifier.isPublic(field.getModifiers()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field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Accessi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ru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obj = field.get(obj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02080" y="5257800"/>
            <a:ext cx="3461040" cy="83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bernate uses this technique so it can serialize non-public fields of an object to a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Further reading and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62320" y="66240"/>
            <a:ext cx="25588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rther rea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very few books that discuss Java 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one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va Reflection in Ac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Ira R. Forman and Nate Fo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concise and 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other source of information is Javadoc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99000" y="78840"/>
            <a:ext cx="16761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has introduced the basics of Java ref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provides information about a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s on the metadata enable a program to examine itself and tak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on is an unusual way to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“meta” nature can cause confus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 fir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simple to use once you know 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chapter looks at a reflection feature called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namic prox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080" y="63000"/>
            <a:ext cx="30751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reflec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look in a mirr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see your ref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ct on what you see, for example, straighten your 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mputer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fle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infrastructure enabling a program can see and manipulate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nsis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tada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 operations to manipulate the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self-refer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metadata is data (information) about one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14000" y="66240"/>
            <a:ext cx="648180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despread ignorance of Java ref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way a developer learns J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s a large book on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read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s reading about half-way through due to project dead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coding (to meet deadlines) with what he has learned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finds the time to read the rest of th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is widespread ignorance of many “advanced” Java 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uch features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just assume they are because they never read that part of the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on is one “advanced” issue that is not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3040" y="66240"/>
            <a:ext cx="34624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reflection difficul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learning to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learn iterative programming with if-then-else, while-loop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learn recursive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eople find recursion difficul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 fir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it is an unusual way of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 becomes much easier once you “get 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wise, many people find reflection difficul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 fir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n unusual way of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 becomes much easier once you “get 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on seems natural to people who have written compil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parse tree is conceptually similar to metadata in refl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reflection-based programming uses recu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63000"/>
            <a:ext cx="33177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ing meta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tores metadata i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for a clas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lang.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for a constructo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lang.reflect.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for a fiel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lang.reflect.Fie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for a metho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lang.reflect.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s to acces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for a 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1 = Cla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“java.util.Properties”);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obj = ...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2 = obj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on classes are inter-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are shown on the nex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5880" y="66240"/>
            <a:ext cx="81043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inter-relatedness of reflection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lass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Constructor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Constructo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Field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Fie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Field[]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Fiel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Method[]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Metho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Field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Method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Class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ParameterTyp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Class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Return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4-21T04:38:17Z</dcterms:modified>
  <cp:revision>1505</cp:revision>
  <dc:subject/>
  <dc:title>Introduction to Java Reflection</dc:title>
</cp:coreProperties>
</file>